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206400" cy="256032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8EB0-D99A-4812-A7D7-41C7F9AAD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4352436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41560" y="15420960"/>
            <a:ext cx="4352436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E33E-3230-40B7-BDAD-619FF717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41560" y="1542096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143560" y="1542096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F1C8-1C74-4A08-B9EF-8BB92574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557280" y="739728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272640" y="739728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41560" y="1542096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557280" y="1542096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272640" y="15420960"/>
            <a:ext cx="140144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B801-C8AB-474D-980F-E8B6D059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41560" y="7397280"/>
            <a:ext cx="43524360" cy="1536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849"/>
              </a:spcBef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DFB-F600-4D4A-9E78-CDDD95F6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4352436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8937-CE24-43A5-8134-9BD8DBDA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475-E35A-4AFD-B843-D0D28837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3BA-E3E6-49D1-AA4B-A38C67AE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41560" y="2276280"/>
            <a:ext cx="43524360" cy="1978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849"/>
              </a:spcBef>
              <a:tabLst>
                <a:tab algn="l" pos="0"/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9359-0A3F-4446-B360-56BF031A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41560" y="1542096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35EF-ACFF-4246-946A-6EAB2A6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143560" y="1542096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1A66-6206-4DEB-AED4-05114B4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41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143560" y="7397280"/>
            <a:ext cx="2123964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41560" y="15420960"/>
            <a:ext cx="43524360" cy="732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/>
          </a:bodyPr>
          <a:p>
            <a:pPr indent="0">
              <a:spcBef>
                <a:spcPts val="3849"/>
              </a:spcBef>
              <a:buNone/>
              <a:tabLst>
                <a:tab algn="l" pos="4390920"/>
                <a:tab algn="l" pos="8782200"/>
              </a:tabLst>
            </a:pP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CB6E-B757-4D38-A140-BFB7A20F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41560" y="2276280"/>
            <a:ext cx="43524360" cy="426708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ctr">
            <a:noAutofit/>
          </a:bodyPr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r>
              <a:rPr b="0" lang="en-US" sz="2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41560" y="7397280"/>
            <a:ext cx="43524360" cy="1536084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rmAutofit fontScale="77000"/>
          </a:bodyPr>
          <a:p>
            <a:pPr marL="1268640" indent="-1268640">
              <a:spcBef>
                <a:spcPts val="3849"/>
              </a:spcBef>
              <a:buClr>
                <a:srgbClr val="000000"/>
              </a:buClr>
              <a:buFont typeface="Helvetica"/>
              <a:buChar char="•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1" marL="2747880" indent="-1056960">
              <a:spcBef>
                <a:spcPts val="3849"/>
              </a:spcBef>
              <a:buClr>
                <a:srgbClr val="000000"/>
              </a:buClr>
              <a:buFont typeface="Helvetica"/>
              <a:buChar char="–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2" marL="4224240" indent="-843480">
              <a:spcBef>
                <a:spcPts val="3849"/>
              </a:spcBef>
              <a:buClr>
                <a:srgbClr val="000000"/>
              </a:buClr>
              <a:buFont typeface="Helvetica"/>
              <a:buChar char="•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3" marL="5913720" indent="-844560">
              <a:spcBef>
                <a:spcPts val="3849"/>
              </a:spcBef>
              <a:buClr>
                <a:srgbClr val="000000"/>
              </a:buClr>
              <a:buFont typeface="Helvetica"/>
              <a:buChar char="–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4" marL="7601760" indent="-842040">
              <a:spcBef>
                <a:spcPts val="3849"/>
              </a:spcBef>
              <a:buClr>
                <a:srgbClr val="000000"/>
              </a:buClr>
              <a:buFont typeface="Helvetica"/>
              <a:buChar char="»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5" marL="7601760" indent="-842040">
              <a:spcBef>
                <a:spcPts val="3849"/>
              </a:spcBef>
              <a:buClr>
                <a:srgbClr val="000000"/>
              </a:buClr>
              <a:buFont typeface="Helvetica"/>
              <a:buChar char="»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  <a:p>
            <a:pPr lvl="6" marL="7601760" indent="-842040">
              <a:spcBef>
                <a:spcPts val="3849"/>
              </a:spcBef>
              <a:buClr>
                <a:srgbClr val="000000"/>
              </a:buClr>
              <a:buFont typeface="Helvetica"/>
              <a:buChar char="»"/>
              <a:tabLst>
                <a:tab algn="l" pos="4390920"/>
                <a:tab algn="l" pos="8782200"/>
              </a:tabLst>
            </a:pPr>
            <a:r>
              <a:rPr b="0" lang="en-US" sz="15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41560" y="23328360"/>
            <a:ext cx="10667880" cy="170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>
              <a:buNone/>
              <a:tabLst>
                <a:tab algn="l" pos="0"/>
                <a:tab algn="l" pos="4390920"/>
                <a:tab algn="l" pos="878220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0920"/>
                <a:tab algn="l" pos="87822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495640" y="23328360"/>
            <a:ext cx="16216200" cy="170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ctr">
              <a:buNone/>
              <a:tabLst>
                <a:tab algn="l" pos="0"/>
                <a:tab algn="l" pos="4390920"/>
                <a:tab algn="l" pos="878220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0920"/>
                <a:tab algn="l" pos="8782200"/>
              </a:tabLst>
            </a:pPr>
            <a:r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698040" y="23328360"/>
            <a:ext cx="10667880" cy="1706400"/>
          </a:xfrm>
          <a:prstGeom prst="rect">
            <a:avLst/>
          </a:prstGeom>
          <a:noFill/>
          <a:ln w="0">
            <a:noFill/>
          </a:ln>
        </p:spPr>
        <p:txBody>
          <a:bodyPr lIns="438840" rIns="438840" tIns="219600" bIns="219600" anchor="t">
            <a:noAutofit/>
          </a:bodyPr>
          <a:lstStyle>
            <a:lvl1pPr indent="0" algn="r">
              <a:buNone/>
              <a:tabLst>
                <a:tab algn="l" pos="0"/>
                <a:tab algn="l" pos="4390920"/>
                <a:tab algn="l" pos="8782200"/>
              </a:tabLst>
              <a:defRPr b="0" lang="en-US" sz="6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0920"/>
                <a:tab algn="l" pos="8782200"/>
              </a:tabLst>
            </a:pPr>
            <a:fld id="{372E8A95-2C85-4C0F-83B8-AAD036DBF891}" type="slidenum">
              <a:rPr b="0" lang="en-US" sz="6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6.wmf"/><Relationship Id="rId8" Type="http://schemas.openxmlformats.org/officeDocument/2006/relationships/package" Target="../embeddings/oleObject2.docx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12.png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68280" y="0"/>
            <a:ext cx="27735120" cy="293688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Arial"/>
              </a:rPr>
              <a:t>Handling Crosscutting Constraints in Domain-Specific Modelin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stitute for Software Integrated Systems (ISIS) – Vanderbilt Univers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ttp://www.isis.vanderbilt.ed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658440" y="6161040"/>
            <a:ext cx="3379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230640" y="3933720"/>
            <a:ext cx="3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911680" y="4494240"/>
            <a:ext cx="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902520" y="457200"/>
            <a:ext cx="5303520" cy="1343160"/>
            <a:chOff x="45902520" y="457200"/>
            <a:chExt cx="5303520" cy="1343160"/>
          </a:xfrm>
        </p:grpSpPr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45902520" y="457200"/>
              <a:ext cx="1342800" cy="134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47300760" y="457200"/>
              <a:ext cx="3905280" cy="12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10201320" y="19631160"/>
            <a:ext cx="6458040" cy="5191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38120" y="3308400"/>
            <a:ext cx="14502960" cy="5773320"/>
            <a:chOff x="438120" y="3308400"/>
            <a:chExt cx="14502960" cy="5773320"/>
          </a:xfrm>
        </p:grpSpPr>
        <p:sp>
          <p:nvSpPr>
            <p:cNvPr id="50" name=""/>
            <p:cNvSpPr/>
            <p:nvPr/>
          </p:nvSpPr>
          <p:spPr>
            <a:xfrm>
              <a:off x="1149840" y="3926520"/>
              <a:ext cx="13791240" cy="5155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s representation and analysis project is investigating the combination of Model Integrated Computing (MIC) and Aspect-Oriented Programming (AOP) composition technologies. In particular, the concepts of aspect-orientation will be applied at a higher level of abstraction - at the modeling level. An additional goal is to develop a framework for building domain-specific weavers. The specific goals of the project are to develop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s project will help produce domain-specific and even application-specific modeling tools that will enable systems engineers to configure, analyze, and validate complex real-time embedded systems in a more intuitive mann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38120" y="3308400"/>
              <a:ext cx="596700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PROJECT OBJECTIVE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555560" y="5669280"/>
              <a:ext cx="12791160" cy="17766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domain-specific, graphical language that captures the functional design of real-time embedded systems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weaving process that maps high-level invariant properties and system requirements to design constraints affecting specific model regions, and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generation process that customizes components and composes real-time embedded system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71520" y="314280"/>
            <a:ext cx="5851440" cy="2470320"/>
            <a:chOff x="371520" y="314280"/>
            <a:chExt cx="5851440" cy="2470320"/>
          </a:xfrm>
        </p:grpSpPr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886200" y="504720"/>
              <a:ext cx="2079720" cy="1076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4"/>
            <a:stretch/>
          </p:blipFill>
          <p:spPr>
            <a:xfrm>
              <a:off x="371520" y="314280"/>
              <a:ext cx="285768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30200" y="2052720"/>
              <a:ext cx="57927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is work is supported by the DARPA Information Technology Office (DARPA/ITO), under the Program Composition for Embedded Systems (PCES) program, Contract Number: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33615-00-C-169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751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41280" y="9590040"/>
            <a:ext cx="21161520" cy="8096040"/>
            <a:chOff x="341280" y="9590040"/>
            <a:chExt cx="21161520" cy="8096040"/>
          </a:xfrm>
        </p:grpSpPr>
        <p:sp>
          <p:nvSpPr>
            <p:cNvPr id="58" name=""/>
            <p:cNvSpPr/>
            <p:nvPr/>
          </p:nvSpPr>
          <p:spPr>
            <a:xfrm>
              <a:off x="341280" y="9590040"/>
              <a:ext cx="115030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CHALLENGES: CROSSCUTTING CONSTRAINTS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141560" y="10208160"/>
              <a:ext cx="20361240" cy="7477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13765320" y="12009960"/>
              <a:ext cx="7111440" cy="4376160"/>
              <a:chOff x="13765320" y="12009960"/>
              <a:chExt cx="7111440" cy="4376160"/>
            </a:xfrm>
          </p:grpSpPr>
          <p:sp>
            <p:nvSpPr>
              <p:cNvPr id="61" name=""/>
              <p:cNvSpPr/>
              <p:nvPr/>
            </p:nvSpPr>
            <p:spPr>
              <a:xfrm>
                <a:off x="16266960" y="12079080"/>
                <a:ext cx="630000" cy="626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4952600" y="13127400"/>
                <a:ext cx="605880" cy="556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338080" y="1417392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4115960" y="14058360"/>
                <a:ext cx="423360" cy="2880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>
                <a:off x="14663160" y="13597560"/>
                <a:ext cx="380520" cy="62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5387480" y="13491000"/>
                <a:ext cx="0" cy="88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15463800" y="13494600"/>
                <a:ext cx="507600" cy="821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268480" y="13127400"/>
                <a:ext cx="577800" cy="627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6811280" y="12430080"/>
                <a:ext cx="637920" cy="76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>
                <a:off x="17242920" y="13703760"/>
                <a:ext cx="294840" cy="797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7782920" y="13516920"/>
                <a:ext cx="1753920" cy="77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15450480" y="12488040"/>
                <a:ext cx="928440" cy="874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15813000" y="12707280"/>
                <a:ext cx="3160080" cy="59544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17584560" y="13195080"/>
                <a:ext cx="1466640" cy="1288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19889640" y="13213080"/>
                <a:ext cx="229680" cy="90936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14242680" y="14455440"/>
                <a:ext cx="226800" cy="11170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15168240" y="15504120"/>
                <a:ext cx="765000" cy="13968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5082560" y="14254560"/>
                <a:ext cx="477720" cy="3895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5800040" y="1417860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720760" y="12943800"/>
                <a:ext cx="458280" cy="3186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6138440" y="12009960"/>
                <a:ext cx="460080" cy="288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16871760" y="14409000"/>
                <a:ext cx="604440" cy="56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16257240" y="15458760"/>
                <a:ext cx="47772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5984360" y="15310440"/>
                <a:ext cx="458280" cy="2721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>
                <a:off x="16530120" y="14802120"/>
                <a:ext cx="456840" cy="72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330400" y="14827680"/>
                <a:ext cx="37800" cy="855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7382960" y="14802120"/>
                <a:ext cx="543960" cy="785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7002080" y="15537600"/>
                <a:ext cx="47880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6854120" y="15309000"/>
                <a:ext cx="461880" cy="2912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719560" y="1546020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6638480" y="14225400"/>
                <a:ext cx="528120" cy="333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9107000" y="12544200"/>
                <a:ext cx="1769760" cy="687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uctu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600" spc="-1" strike="noStrike">
                    <a:solidFill>
                      <a:srgbClr val="ffffcc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9333800" y="14211360"/>
                <a:ext cx="604800" cy="558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717840" y="1525896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8448200" y="15062760"/>
                <a:ext cx="495000" cy="320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’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19043280" y="14668200"/>
                <a:ext cx="380880" cy="62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19767240" y="14673240"/>
                <a:ext cx="9360" cy="655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881720" y="14629680"/>
                <a:ext cx="507600" cy="784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9464120" y="15338160"/>
                <a:ext cx="479160" cy="391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316520" y="15111360"/>
                <a:ext cx="495000" cy="29124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’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0183400" y="15261120"/>
                <a:ext cx="477360" cy="390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9100520" y="14025600"/>
                <a:ext cx="598320" cy="33336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’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4936760" y="14000040"/>
                <a:ext cx="424800" cy="302400"/>
              </a:xfrm>
              <a:prstGeom prst="rect">
                <a:avLst/>
              </a:prstGeom>
              <a:solidFill>
                <a:srgbClr val="ff33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3765320" y="15697440"/>
                <a:ext cx="1920600" cy="688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text Sensitiv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Constrai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600" spc="-1" strike="noStrike">
                    <a:solidFill>
                      <a:srgbClr val="ffffcc"/>
                    </a:solidFill>
                    <a:latin typeface="Arial"/>
                  </a:rPr>
                  <a:t>2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1592280" y="10956600"/>
              <a:ext cx="11661840" cy="61110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bserv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real-time system’s requirements, algorithms, resources, and behavior is captured as a “design-space,” representing a multitude of alternative system implementations. 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avigation of the design space is assisted by the specification of design constraints as components within a set of hierarchical, multiple-view model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se constraints are scattered across the hierarchy of a mode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refore, </a:t>
              </a:r>
              <a:r>
                <a:rPr b="0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constraints represent a type of crosscutting concern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within domain-specific modeli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onseque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crosscutting nature makes it difficult to maintain and reason about the effect and purpose of each constraint.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anaging these distributed constraints becomes extremely difficult as system size increas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perimenting with different architectures, synchronization methods, network protocols, etc., becomes error-prone and labor intensive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5717960" y="18008640"/>
            <a:ext cx="14812560" cy="6670440"/>
            <a:chOff x="15717960" y="18008640"/>
            <a:chExt cx="14812560" cy="6670440"/>
          </a:xfrm>
        </p:grpSpPr>
        <p:sp>
          <p:nvSpPr>
            <p:cNvPr id="107" name=""/>
            <p:cNvSpPr/>
            <p:nvPr/>
          </p:nvSpPr>
          <p:spPr>
            <a:xfrm>
              <a:off x="16482960" y="18621360"/>
              <a:ext cx="14047560" cy="6057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4038280" y="19951200"/>
              <a:ext cx="6177960" cy="3814200"/>
              <a:chOff x="24038280" y="19951200"/>
              <a:chExt cx="6177960" cy="3814200"/>
            </a:xfrm>
          </p:grpSpPr>
          <p:sp>
            <p:nvSpPr>
              <p:cNvPr id="109" name=""/>
              <p:cNvSpPr/>
              <p:nvPr/>
            </p:nvSpPr>
            <p:spPr>
              <a:xfrm>
                <a:off x="27339840" y="20023920"/>
                <a:ext cx="1043280" cy="1058040"/>
              </a:xfrm>
              <a:custGeom>
                <a:avLst/>
                <a:gdLst/>
                <a:ahLst/>
                <a:rect l="l" t="t" r="r" b="b"/>
                <a:pathLst>
                  <a:path w="1153" h="1122">
                    <a:moveTo>
                      <a:pt x="0" y="234"/>
                    </a:moveTo>
                    <a:lnTo>
                      <a:pt x="0" y="0"/>
                    </a:lnTo>
                    <a:lnTo>
                      <a:pt x="1152" y="0"/>
                    </a:lnTo>
                    <a:lnTo>
                      <a:pt x="1153" y="896"/>
                    </a:lnTo>
                    <a:lnTo>
                      <a:pt x="1053" y="896"/>
                    </a:lnTo>
                    <a:lnTo>
                      <a:pt x="1049" y="904"/>
                    </a:lnTo>
                    <a:lnTo>
                      <a:pt x="1046" y="915"/>
                    </a:lnTo>
                    <a:lnTo>
                      <a:pt x="1046" y="924"/>
                    </a:lnTo>
                    <a:lnTo>
                      <a:pt x="1047" y="935"/>
                    </a:lnTo>
                    <a:lnTo>
                      <a:pt x="1051" y="949"/>
                    </a:lnTo>
                    <a:lnTo>
                      <a:pt x="1055" y="967"/>
                    </a:lnTo>
                    <a:lnTo>
                      <a:pt x="1059" y="979"/>
                    </a:lnTo>
                    <a:lnTo>
                      <a:pt x="1062" y="994"/>
                    </a:lnTo>
                    <a:lnTo>
                      <a:pt x="1064" y="1008"/>
                    </a:lnTo>
                    <a:lnTo>
                      <a:pt x="1064" y="1022"/>
                    </a:lnTo>
                    <a:lnTo>
                      <a:pt x="1062" y="1035"/>
                    </a:lnTo>
                    <a:lnTo>
                      <a:pt x="1059" y="1049"/>
                    </a:lnTo>
                    <a:lnTo>
                      <a:pt x="1054" y="1062"/>
                    </a:lnTo>
                    <a:lnTo>
                      <a:pt x="1046" y="1072"/>
                    </a:lnTo>
                    <a:lnTo>
                      <a:pt x="1035" y="1084"/>
                    </a:lnTo>
                    <a:lnTo>
                      <a:pt x="1024" y="1093"/>
                    </a:lnTo>
                    <a:lnTo>
                      <a:pt x="1014" y="1102"/>
                    </a:lnTo>
                    <a:lnTo>
                      <a:pt x="1002" y="1109"/>
                    </a:lnTo>
                    <a:lnTo>
                      <a:pt x="988" y="1114"/>
                    </a:lnTo>
                    <a:lnTo>
                      <a:pt x="971" y="1119"/>
                    </a:lnTo>
                    <a:lnTo>
                      <a:pt x="955" y="1121"/>
                    </a:lnTo>
                    <a:lnTo>
                      <a:pt x="941" y="1122"/>
                    </a:lnTo>
                    <a:lnTo>
                      <a:pt x="926" y="1122"/>
                    </a:lnTo>
                    <a:lnTo>
                      <a:pt x="912" y="1121"/>
                    </a:lnTo>
                    <a:lnTo>
                      <a:pt x="901" y="1119"/>
                    </a:lnTo>
                    <a:lnTo>
                      <a:pt x="888" y="1115"/>
                    </a:lnTo>
                    <a:lnTo>
                      <a:pt x="875" y="1111"/>
                    </a:lnTo>
                    <a:lnTo>
                      <a:pt x="865" y="1105"/>
                    </a:lnTo>
                    <a:lnTo>
                      <a:pt x="854" y="1097"/>
                    </a:lnTo>
                    <a:lnTo>
                      <a:pt x="844" y="1087"/>
                    </a:lnTo>
                    <a:lnTo>
                      <a:pt x="834" y="1076"/>
                    </a:lnTo>
                    <a:lnTo>
                      <a:pt x="825" y="1065"/>
                    </a:lnTo>
                    <a:lnTo>
                      <a:pt x="818" y="1053"/>
                    </a:lnTo>
                    <a:lnTo>
                      <a:pt x="813" y="1038"/>
                    </a:lnTo>
                    <a:lnTo>
                      <a:pt x="809" y="1021"/>
                    </a:lnTo>
                    <a:lnTo>
                      <a:pt x="809" y="1005"/>
                    </a:lnTo>
                    <a:lnTo>
                      <a:pt x="813" y="989"/>
                    </a:lnTo>
                    <a:lnTo>
                      <a:pt x="817" y="973"/>
                    </a:lnTo>
                    <a:lnTo>
                      <a:pt x="821" y="957"/>
                    </a:lnTo>
                    <a:lnTo>
                      <a:pt x="826" y="939"/>
                    </a:lnTo>
                    <a:lnTo>
                      <a:pt x="828" y="925"/>
                    </a:lnTo>
                    <a:lnTo>
                      <a:pt x="828" y="917"/>
                    </a:lnTo>
                    <a:lnTo>
                      <a:pt x="827" y="910"/>
                    </a:lnTo>
                    <a:lnTo>
                      <a:pt x="824" y="902"/>
                    </a:lnTo>
                    <a:lnTo>
                      <a:pt x="632" y="902"/>
                    </a:lnTo>
                    <a:lnTo>
                      <a:pt x="635" y="868"/>
                    </a:lnTo>
                    <a:lnTo>
                      <a:pt x="634" y="849"/>
                    </a:lnTo>
                    <a:lnTo>
                      <a:pt x="632" y="831"/>
                    </a:lnTo>
                    <a:lnTo>
                      <a:pt x="630" y="814"/>
                    </a:lnTo>
                    <a:lnTo>
                      <a:pt x="627" y="803"/>
                    </a:lnTo>
                    <a:lnTo>
                      <a:pt x="622" y="793"/>
                    </a:lnTo>
                    <a:lnTo>
                      <a:pt x="616" y="784"/>
                    </a:lnTo>
                    <a:lnTo>
                      <a:pt x="606" y="776"/>
                    </a:lnTo>
                    <a:lnTo>
                      <a:pt x="595" y="769"/>
                    </a:lnTo>
                    <a:lnTo>
                      <a:pt x="584" y="765"/>
                    </a:lnTo>
                    <a:lnTo>
                      <a:pt x="574" y="763"/>
                    </a:lnTo>
                    <a:lnTo>
                      <a:pt x="557" y="762"/>
                    </a:lnTo>
                    <a:lnTo>
                      <a:pt x="537" y="762"/>
                    </a:lnTo>
                    <a:lnTo>
                      <a:pt x="518" y="764"/>
                    </a:lnTo>
                    <a:lnTo>
                      <a:pt x="497" y="765"/>
                    </a:lnTo>
                    <a:lnTo>
                      <a:pt x="481" y="767"/>
                    </a:lnTo>
                    <a:lnTo>
                      <a:pt x="460" y="768"/>
                    </a:lnTo>
                    <a:lnTo>
                      <a:pt x="443" y="767"/>
                    </a:lnTo>
                    <a:lnTo>
                      <a:pt x="428" y="765"/>
                    </a:lnTo>
                    <a:lnTo>
                      <a:pt x="405" y="760"/>
                    </a:lnTo>
                    <a:lnTo>
                      <a:pt x="390" y="753"/>
                    </a:lnTo>
                    <a:lnTo>
                      <a:pt x="376" y="743"/>
                    </a:lnTo>
                    <a:lnTo>
                      <a:pt x="367" y="732"/>
                    </a:lnTo>
                    <a:lnTo>
                      <a:pt x="359" y="720"/>
                    </a:lnTo>
                    <a:lnTo>
                      <a:pt x="353" y="705"/>
                    </a:lnTo>
                    <a:lnTo>
                      <a:pt x="352" y="689"/>
                    </a:lnTo>
                    <a:lnTo>
                      <a:pt x="352" y="669"/>
                    </a:lnTo>
                    <a:lnTo>
                      <a:pt x="353" y="654"/>
                    </a:lnTo>
                    <a:lnTo>
                      <a:pt x="352" y="639"/>
                    </a:lnTo>
                    <a:lnTo>
                      <a:pt x="348" y="622"/>
                    </a:lnTo>
                    <a:lnTo>
                      <a:pt x="345" y="612"/>
                    </a:lnTo>
                    <a:lnTo>
                      <a:pt x="340" y="602"/>
                    </a:lnTo>
                    <a:lnTo>
                      <a:pt x="334" y="595"/>
                    </a:lnTo>
                    <a:lnTo>
                      <a:pt x="328" y="589"/>
                    </a:lnTo>
                    <a:lnTo>
                      <a:pt x="315" y="583"/>
                    </a:lnTo>
                    <a:lnTo>
                      <a:pt x="300" y="576"/>
                    </a:lnTo>
                    <a:lnTo>
                      <a:pt x="283" y="571"/>
                    </a:lnTo>
                    <a:lnTo>
                      <a:pt x="263" y="566"/>
                    </a:lnTo>
                    <a:lnTo>
                      <a:pt x="243" y="562"/>
                    </a:lnTo>
                    <a:lnTo>
                      <a:pt x="222" y="559"/>
                    </a:lnTo>
                    <a:lnTo>
                      <a:pt x="207" y="554"/>
                    </a:lnTo>
                    <a:lnTo>
                      <a:pt x="191" y="549"/>
                    </a:lnTo>
                    <a:lnTo>
                      <a:pt x="175" y="543"/>
                    </a:lnTo>
                    <a:lnTo>
                      <a:pt x="164" y="534"/>
                    </a:lnTo>
                    <a:lnTo>
                      <a:pt x="151" y="523"/>
                    </a:lnTo>
                    <a:lnTo>
                      <a:pt x="142" y="513"/>
                    </a:lnTo>
                    <a:lnTo>
                      <a:pt x="134" y="501"/>
                    </a:lnTo>
                    <a:lnTo>
                      <a:pt x="128" y="487"/>
                    </a:lnTo>
                    <a:lnTo>
                      <a:pt x="126" y="472"/>
                    </a:lnTo>
                    <a:lnTo>
                      <a:pt x="126" y="458"/>
                    </a:lnTo>
                    <a:lnTo>
                      <a:pt x="129" y="445"/>
                    </a:lnTo>
                    <a:lnTo>
                      <a:pt x="134" y="426"/>
                    </a:lnTo>
                    <a:lnTo>
                      <a:pt x="139" y="407"/>
                    </a:lnTo>
                    <a:lnTo>
                      <a:pt x="141" y="390"/>
                    </a:lnTo>
                    <a:lnTo>
                      <a:pt x="145" y="373"/>
                    </a:lnTo>
                    <a:lnTo>
                      <a:pt x="147" y="356"/>
                    </a:lnTo>
                    <a:lnTo>
                      <a:pt x="145" y="338"/>
                    </a:lnTo>
                    <a:lnTo>
                      <a:pt x="141" y="322"/>
                    </a:lnTo>
                    <a:lnTo>
                      <a:pt x="135" y="306"/>
                    </a:lnTo>
                    <a:lnTo>
                      <a:pt x="127" y="291"/>
                    </a:lnTo>
                    <a:lnTo>
                      <a:pt x="118" y="279"/>
                    </a:lnTo>
                    <a:lnTo>
                      <a:pt x="113" y="272"/>
                    </a:lnTo>
                    <a:lnTo>
                      <a:pt x="104" y="263"/>
                    </a:lnTo>
                    <a:lnTo>
                      <a:pt x="95" y="255"/>
                    </a:lnTo>
                    <a:lnTo>
                      <a:pt x="86" y="249"/>
                    </a:lnTo>
                    <a:lnTo>
                      <a:pt x="74" y="243"/>
                    </a:lnTo>
                    <a:lnTo>
                      <a:pt x="62" y="239"/>
                    </a:lnTo>
                    <a:lnTo>
                      <a:pt x="47" y="235"/>
                    </a:lnTo>
                    <a:lnTo>
                      <a:pt x="30" y="234"/>
                    </a:lnTo>
                    <a:lnTo>
                      <a:pt x="15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688880" y="20719440"/>
                <a:ext cx="1042920" cy="1056240"/>
              </a:xfrm>
              <a:custGeom>
                <a:avLst/>
                <a:gdLst/>
                <a:ahLst/>
                <a:rect l="l" t="t" r="r" b="b"/>
                <a:pathLst>
                  <a:path w="1153" h="1122">
                    <a:moveTo>
                      <a:pt x="1153" y="924"/>
                    </a:moveTo>
                    <a:lnTo>
                      <a:pt x="1153" y="1122"/>
                    </a:lnTo>
                    <a:lnTo>
                      <a:pt x="1" y="1122"/>
                    </a:lnTo>
                    <a:lnTo>
                      <a:pt x="0" y="226"/>
                    </a:lnTo>
                    <a:lnTo>
                      <a:pt x="100" y="226"/>
                    </a:lnTo>
                    <a:lnTo>
                      <a:pt x="104" y="218"/>
                    </a:lnTo>
                    <a:lnTo>
                      <a:pt x="107" y="207"/>
                    </a:lnTo>
                    <a:lnTo>
                      <a:pt x="107" y="198"/>
                    </a:lnTo>
                    <a:lnTo>
                      <a:pt x="106" y="187"/>
                    </a:lnTo>
                    <a:lnTo>
                      <a:pt x="102" y="173"/>
                    </a:lnTo>
                    <a:lnTo>
                      <a:pt x="98" y="155"/>
                    </a:lnTo>
                    <a:lnTo>
                      <a:pt x="94" y="143"/>
                    </a:lnTo>
                    <a:lnTo>
                      <a:pt x="90" y="128"/>
                    </a:lnTo>
                    <a:lnTo>
                      <a:pt x="89" y="114"/>
                    </a:lnTo>
                    <a:lnTo>
                      <a:pt x="89" y="100"/>
                    </a:lnTo>
                    <a:lnTo>
                      <a:pt x="90" y="87"/>
                    </a:lnTo>
                    <a:lnTo>
                      <a:pt x="94" y="73"/>
                    </a:lnTo>
                    <a:lnTo>
                      <a:pt x="99" y="60"/>
                    </a:lnTo>
                    <a:lnTo>
                      <a:pt x="107" y="50"/>
                    </a:lnTo>
                    <a:lnTo>
                      <a:pt x="118" y="38"/>
                    </a:lnTo>
                    <a:lnTo>
                      <a:pt x="128" y="29"/>
                    </a:lnTo>
                    <a:lnTo>
                      <a:pt x="139" y="20"/>
                    </a:lnTo>
                    <a:lnTo>
                      <a:pt x="151" y="13"/>
                    </a:lnTo>
                    <a:lnTo>
                      <a:pt x="165" y="7"/>
                    </a:lnTo>
                    <a:lnTo>
                      <a:pt x="181" y="3"/>
                    </a:lnTo>
                    <a:lnTo>
                      <a:pt x="198" y="1"/>
                    </a:lnTo>
                    <a:lnTo>
                      <a:pt x="212" y="0"/>
                    </a:lnTo>
                    <a:lnTo>
                      <a:pt x="227" y="0"/>
                    </a:lnTo>
                    <a:lnTo>
                      <a:pt x="241" y="1"/>
                    </a:lnTo>
                    <a:lnTo>
                      <a:pt x="252" y="3"/>
                    </a:lnTo>
                    <a:lnTo>
                      <a:pt x="265" y="7"/>
                    </a:lnTo>
                    <a:lnTo>
                      <a:pt x="278" y="11"/>
                    </a:lnTo>
                    <a:lnTo>
                      <a:pt x="288" y="17"/>
                    </a:lnTo>
                    <a:lnTo>
                      <a:pt x="299" y="25"/>
                    </a:lnTo>
                    <a:lnTo>
                      <a:pt x="309" y="35"/>
                    </a:lnTo>
                    <a:lnTo>
                      <a:pt x="319" y="46"/>
                    </a:lnTo>
                    <a:lnTo>
                      <a:pt x="328" y="57"/>
                    </a:lnTo>
                    <a:lnTo>
                      <a:pt x="335" y="69"/>
                    </a:lnTo>
                    <a:lnTo>
                      <a:pt x="340" y="84"/>
                    </a:lnTo>
                    <a:lnTo>
                      <a:pt x="344" y="101"/>
                    </a:lnTo>
                    <a:lnTo>
                      <a:pt x="344" y="117"/>
                    </a:lnTo>
                    <a:lnTo>
                      <a:pt x="340" y="133"/>
                    </a:lnTo>
                    <a:lnTo>
                      <a:pt x="336" y="149"/>
                    </a:lnTo>
                    <a:lnTo>
                      <a:pt x="332" y="165"/>
                    </a:lnTo>
                    <a:lnTo>
                      <a:pt x="327" y="183"/>
                    </a:lnTo>
                    <a:lnTo>
                      <a:pt x="324" y="197"/>
                    </a:lnTo>
                    <a:lnTo>
                      <a:pt x="324" y="205"/>
                    </a:lnTo>
                    <a:lnTo>
                      <a:pt x="326" y="212"/>
                    </a:lnTo>
                    <a:lnTo>
                      <a:pt x="329" y="220"/>
                    </a:lnTo>
                    <a:lnTo>
                      <a:pt x="520" y="220"/>
                    </a:lnTo>
                    <a:lnTo>
                      <a:pt x="516" y="257"/>
                    </a:lnTo>
                    <a:lnTo>
                      <a:pt x="515" y="279"/>
                    </a:lnTo>
                    <a:lnTo>
                      <a:pt x="516" y="297"/>
                    </a:lnTo>
                    <a:lnTo>
                      <a:pt x="517" y="314"/>
                    </a:lnTo>
                    <a:lnTo>
                      <a:pt x="519" y="332"/>
                    </a:lnTo>
                    <a:lnTo>
                      <a:pt x="522" y="350"/>
                    </a:lnTo>
                    <a:lnTo>
                      <a:pt x="528" y="362"/>
                    </a:lnTo>
                    <a:lnTo>
                      <a:pt x="535" y="372"/>
                    </a:lnTo>
                    <a:lnTo>
                      <a:pt x="544" y="381"/>
                    </a:lnTo>
                    <a:lnTo>
                      <a:pt x="556" y="388"/>
                    </a:lnTo>
                    <a:lnTo>
                      <a:pt x="569" y="393"/>
                    </a:lnTo>
                    <a:lnTo>
                      <a:pt x="582" y="395"/>
                    </a:lnTo>
                    <a:lnTo>
                      <a:pt x="596" y="396"/>
                    </a:lnTo>
                    <a:lnTo>
                      <a:pt x="612" y="396"/>
                    </a:lnTo>
                    <a:lnTo>
                      <a:pt x="629" y="394"/>
                    </a:lnTo>
                    <a:lnTo>
                      <a:pt x="641" y="393"/>
                    </a:lnTo>
                    <a:lnTo>
                      <a:pt x="659" y="391"/>
                    </a:lnTo>
                    <a:lnTo>
                      <a:pt x="677" y="389"/>
                    </a:lnTo>
                    <a:lnTo>
                      <a:pt x="697" y="389"/>
                    </a:lnTo>
                    <a:lnTo>
                      <a:pt x="714" y="391"/>
                    </a:lnTo>
                    <a:lnTo>
                      <a:pt x="731" y="394"/>
                    </a:lnTo>
                    <a:lnTo>
                      <a:pt x="748" y="400"/>
                    </a:lnTo>
                    <a:lnTo>
                      <a:pt x="762" y="406"/>
                    </a:lnTo>
                    <a:lnTo>
                      <a:pt x="776" y="416"/>
                    </a:lnTo>
                    <a:lnTo>
                      <a:pt x="785" y="427"/>
                    </a:lnTo>
                    <a:lnTo>
                      <a:pt x="793" y="440"/>
                    </a:lnTo>
                    <a:lnTo>
                      <a:pt x="798" y="454"/>
                    </a:lnTo>
                    <a:lnTo>
                      <a:pt x="800" y="468"/>
                    </a:lnTo>
                    <a:lnTo>
                      <a:pt x="798" y="484"/>
                    </a:lnTo>
                    <a:lnTo>
                      <a:pt x="797" y="500"/>
                    </a:lnTo>
                    <a:lnTo>
                      <a:pt x="798" y="516"/>
                    </a:lnTo>
                    <a:lnTo>
                      <a:pt x="800" y="530"/>
                    </a:lnTo>
                    <a:lnTo>
                      <a:pt x="805" y="543"/>
                    </a:lnTo>
                    <a:lnTo>
                      <a:pt x="811" y="556"/>
                    </a:lnTo>
                    <a:lnTo>
                      <a:pt x="819" y="565"/>
                    </a:lnTo>
                    <a:lnTo>
                      <a:pt x="831" y="574"/>
                    </a:lnTo>
                    <a:lnTo>
                      <a:pt x="847" y="580"/>
                    </a:lnTo>
                    <a:lnTo>
                      <a:pt x="864" y="585"/>
                    </a:lnTo>
                    <a:lnTo>
                      <a:pt x="878" y="589"/>
                    </a:lnTo>
                    <a:lnTo>
                      <a:pt x="895" y="593"/>
                    </a:lnTo>
                    <a:lnTo>
                      <a:pt x="915" y="597"/>
                    </a:lnTo>
                    <a:lnTo>
                      <a:pt x="932" y="600"/>
                    </a:lnTo>
                    <a:lnTo>
                      <a:pt x="949" y="605"/>
                    </a:lnTo>
                    <a:lnTo>
                      <a:pt x="963" y="610"/>
                    </a:lnTo>
                    <a:lnTo>
                      <a:pt x="977" y="616"/>
                    </a:lnTo>
                    <a:lnTo>
                      <a:pt x="988" y="624"/>
                    </a:lnTo>
                    <a:lnTo>
                      <a:pt x="997" y="632"/>
                    </a:lnTo>
                    <a:lnTo>
                      <a:pt x="1009" y="645"/>
                    </a:lnTo>
                    <a:lnTo>
                      <a:pt x="1016" y="657"/>
                    </a:lnTo>
                    <a:lnTo>
                      <a:pt x="1022" y="670"/>
                    </a:lnTo>
                    <a:lnTo>
                      <a:pt x="1025" y="688"/>
                    </a:lnTo>
                    <a:lnTo>
                      <a:pt x="1023" y="705"/>
                    </a:lnTo>
                    <a:lnTo>
                      <a:pt x="1020" y="720"/>
                    </a:lnTo>
                    <a:lnTo>
                      <a:pt x="1016" y="739"/>
                    </a:lnTo>
                    <a:lnTo>
                      <a:pt x="1011" y="760"/>
                    </a:lnTo>
                    <a:lnTo>
                      <a:pt x="1006" y="779"/>
                    </a:lnTo>
                    <a:lnTo>
                      <a:pt x="1004" y="795"/>
                    </a:lnTo>
                    <a:lnTo>
                      <a:pt x="1004" y="808"/>
                    </a:lnTo>
                    <a:lnTo>
                      <a:pt x="1007" y="827"/>
                    </a:lnTo>
                    <a:lnTo>
                      <a:pt x="1011" y="843"/>
                    </a:lnTo>
                    <a:lnTo>
                      <a:pt x="1017" y="855"/>
                    </a:lnTo>
                    <a:lnTo>
                      <a:pt x="1024" y="867"/>
                    </a:lnTo>
                    <a:lnTo>
                      <a:pt x="1034" y="880"/>
                    </a:lnTo>
                    <a:lnTo>
                      <a:pt x="1045" y="893"/>
                    </a:lnTo>
                    <a:lnTo>
                      <a:pt x="1058" y="904"/>
                    </a:lnTo>
                    <a:lnTo>
                      <a:pt x="1073" y="913"/>
                    </a:lnTo>
                    <a:lnTo>
                      <a:pt x="1087" y="918"/>
                    </a:lnTo>
                    <a:lnTo>
                      <a:pt x="1102" y="922"/>
                    </a:lnTo>
                    <a:lnTo>
                      <a:pt x="1117" y="924"/>
                    </a:lnTo>
                    <a:lnTo>
                      <a:pt x="1135" y="925"/>
                    </a:lnTo>
                    <a:lnTo>
                      <a:pt x="1153" y="924"/>
                    </a:ln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688880" y="20041920"/>
                <a:ext cx="1047960" cy="884160"/>
              </a:xfrm>
              <a:custGeom>
                <a:avLst/>
                <a:gdLst/>
                <a:ahLst/>
                <a:rect l="l" t="t" r="r" b="b"/>
                <a:pathLst>
                  <a:path w="1158" h="940">
                    <a:moveTo>
                      <a:pt x="1158" y="234"/>
                    </a:moveTo>
                    <a:lnTo>
                      <a:pt x="1158" y="0"/>
                    </a:lnTo>
                    <a:lnTo>
                      <a:pt x="0" y="0"/>
                    </a:lnTo>
                    <a:lnTo>
                      <a:pt x="1" y="940"/>
                    </a:lnTo>
                    <a:lnTo>
                      <a:pt x="104" y="940"/>
                    </a:lnTo>
                    <a:lnTo>
                      <a:pt x="109" y="922"/>
                    </a:lnTo>
                    <a:lnTo>
                      <a:pt x="109" y="909"/>
                    </a:lnTo>
                    <a:lnTo>
                      <a:pt x="106" y="891"/>
                    </a:lnTo>
                    <a:lnTo>
                      <a:pt x="100" y="872"/>
                    </a:lnTo>
                    <a:lnTo>
                      <a:pt x="94" y="849"/>
                    </a:lnTo>
                    <a:lnTo>
                      <a:pt x="91" y="831"/>
                    </a:lnTo>
                    <a:lnTo>
                      <a:pt x="90" y="815"/>
                    </a:lnTo>
                    <a:lnTo>
                      <a:pt x="93" y="797"/>
                    </a:lnTo>
                    <a:lnTo>
                      <a:pt x="98" y="780"/>
                    </a:lnTo>
                    <a:lnTo>
                      <a:pt x="109" y="763"/>
                    </a:lnTo>
                    <a:lnTo>
                      <a:pt x="122" y="750"/>
                    </a:lnTo>
                    <a:lnTo>
                      <a:pt x="136" y="737"/>
                    </a:lnTo>
                    <a:lnTo>
                      <a:pt x="152" y="728"/>
                    </a:lnTo>
                    <a:lnTo>
                      <a:pt x="171" y="720"/>
                    </a:lnTo>
                    <a:lnTo>
                      <a:pt x="188" y="717"/>
                    </a:lnTo>
                    <a:lnTo>
                      <a:pt x="212" y="716"/>
                    </a:lnTo>
                    <a:lnTo>
                      <a:pt x="240" y="718"/>
                    </a:lnTo>
                    <a:lnTo>
                      <a:pt x="258" y="720"/>
                    </a:lnTo>
                    <a:lnTo>
                      <a:pt x="274" y="725"/>
                    </a:lnTo>
                    <a:lnTo>
                      <a:pt x="289" y="734"/>
                    </a:lnTo>
                    <a:lnTo>
                      <a:pt x="308" y="749"/>
                    </a:lnTo>
                    <a:lnTo>
                      <a:pt x="320" y="763"/>
                    </a:lnTo>
                    <a:lnTo>
                      <a:pt x="331" y="778"/>
                    </a:lnTo>
                    <a:lnTo>
                      <a:pt x="337" y="794"/>
                    </a:lnTo>
                    <a:lnTo>
                      <a:pt x="341" y="809"/>
                    </a:lnTo>
                    <a:lnTo>
                      <a:pt x="341" y="826"/>
                    </a:lnTo>
                    <a:lnTo>
                      <a:pt x="339" y="843"/>
                    </a:lnTo>
                    <a:lnTo>
                      <a:pt x="335" y="859"/>
                    </a:lnTo>
                    <a:lnTo>
                      <a:pt x="331" y="874"/>
                    </a:lnTo>
                    <a:lnTo>
                      <a:pt x="326" y="890"/>
                    </a:lnTo>
                    <a:lnTo>
                      <a:pt x="323" y="906"/>
                    </a:lnTo>
                    <a:lnTo>
                      <a:pt x="323" y="920"/>
                    </a:lnTo>
                    <a:lnTo>
                      <a:pt x="327" y="936"/>
                    </a:lnTo>
                    <a:lnTo>
                      <a:pt x="521" y="936"/>
                    </a:lnTo>
                    <a:lnTo>
                      <a:pt x="519" y="903"/>
                    </a:lnTo>
                    <a:lnTo>
                      <a:pt x="521" y="879"/>
                    </a:lnTo>
                    <a:lnTo>
                      <a:pt x="521" y="861"/>
                    </a:lnTo>
                    <a:lnTo>
                      <a:pt x="522" y="844"/>
                    </a:lnTo>
                    <a:lnTo>
                      <a:pt x="524" y="826"/>
                    </a:lnTo>
                    <a:lnTo>
                      <a:pt x="528" y="808"/>
                    </a:lnTo>
                    <a:lnTo>
                      <a:pt x="533" y="796"/>
                    </a:lnTo>
                    <a:lnTo>
                      <a:pt x="540" y="785"/>
                    </a:lnTo>
                    <a:lnTo>
                      <a:pt x="550" y="776"/>
                    </a:lnTo>
                    <a:lnTo>
                      <a:pt x="561" y="769"/>
                    </a:lnTo>
                    <a:lnTo>
                      <a:pt x="574" y="765"/>
                    </a:lnTo>
                    <a:lnTo>
                      <a:pt x="588" y="763"/>
                    </a:lnTo>
                    <a:lnTo>
                      <a:pt x="601" y="762"/>
                    </a:lnTo>
                    <a:lnTo>
                      <a:pt x="618" y="762"/>
                    </a:lnTo>
                    <a:lnTo>
                      <a:pt x="634" y="763"/>
                    </a:lnTo>
                    <a:lnTo>
                      <a:pt x="647" y="765"/>
                    </a:lnTo>
                    <a:lnTo>
                      <a:pt x="664" y="766"/>
                    </a:lnTo>
                    <a:lnTo>
                      <a:pt x="682" y="768"/>
                    </a:lnTo>
                    <a:lnTo>
                      <a:pt x="702" y="768"/>
                    </a:lnTo>
                    <a:lnTo>
                      <a:pt x="719" y="766"/>
                    </a:lnTo>
                    <a:lnTo>
                      <a:pt x="736" y="763"/>
                    </a:lnTo>
                    <a:lnTo>
                      <a:pt x="754" y="759"/>
                    </a:lnTo>
                    <a:lnTo>
                      <a:pt x="767" y="752"/>
                    </a:lnTo>
                    <a:lnTo>
                      <a:pt x="781" y="743"/>
                    </a:lnTo>
                    <a:lnTo>
                      <a:pt x="790" y="731"/>
                    </a:lnTo>
                    <a:lnTo>
                      <a:pt x="799" y="718"/>
                    </a:lnTo>
                    <a:lnTo>
                      <a:pt x="803" y="705"/>
                    </a:lnTo>
                    <a:lnTo>
                      <a:pt x="805" y="690"/>
                    </a:lnTo>
                    <a:lnTo>
                      <a:pt x="803" y="675"/>
                    </a:lnTo>
                    <a:lnTo>
                      <a:pt x="802" y="659"/>
                    </a:lnTo>
                    <a:lnTo>
                      <a:pt x="803" y="642"/>
                    </a:lnTo>
                    <a:lnTo>
                      <a:pt x="806" y="629"/>
                    </a:lnTo>
                    <a:lnTo>
                      <a:pt x="810" y="615"/>
                    </a:lnTo>
                    <a:lnTo>
                      <a:pt x="816" y="602"/>
                    </a:lnTo>
                    <a:lnTo>
                      <a:pt x="824" y="593"/>
                    </a:lnTo>
                    <a:lnTo>
                      <a:pt x="837" y="584"/>
                    </a:lnTo>
                    <a:lnTo>
                      <a:pt x="853" y="578"/>
                    </a:lnTo>
                    <a:lnTo>
                      <a:pt x="869" y="573"/>
                    </a:lnTo>
                    <a:lnTo>
                      <a:pt x="884" y="569"/>
                    </a:lnTo>
                    <a:lnTo>
                      <a:pt x="900" y="565"/>
                    </a:lnTo>
                    <a:lnTo>
                      <a:pt x="921" y="561"/>
                    </a:lnTo>
                    <a:lnTo>
                      <a:pt x="937" y="558"/>
                    </a:lnTo>
                    <a:lnTo>
                      <a:pt x="954" y="553"/>
                    </a:lnTo>
                    <a:lnTo>
                      <a:pt x="968" y="548"/>
                    </a:lnTo>
                    <a:lnTo>
                      <a:pt x="982" y="542"/>
                    </a:lnTo>
                    <a:lnTo>
                      <a:pt x="993" y="534"/>
                    </a:lnTo>
                    <a:lnTo>
                      <a:pt x="1003" y="526"/>
                    </a:lnTo>
                    <a:lnTo>
                      <a:pt x="1014" y="513"/>
                    </a:lnTo>
                    <a:lnTo>
                      <a:pt x="1021" y="501"/>
                    </a:lnTo>
                    <a:lnTo>
                      <a:pt x="1027" y="487"/>
                    </a:lnTo>
                    <a:lnTo>
                      <a:pt x="1030" y="469"/>
                    </a:lnTo>
                    <a:lnTo>
                      <a:pt x="1028" y="454"/>
                    </a:lnTo>
                    <a:lnTo>
                      <a:pt x="1026" y="438"/>
                    </a:lnTo>
                    <a:lnTo>
                      <a:pt x="1021" y="419"/>
                    </a:lnTo>
                    <a:lnTo>
                      <a:pt x="1016" y="398"/>
                    </a:lnTo>
                    <a:lnTo>
                      <a:pt x="1011" y="379"/>
                    </a:lnTo>
                    <a:lnTo>
                      <a:pt x="1010" y="364"/>
                    </a:lnTo>
                    <a:lnTo>
                      <a:pt x="1010" y="350"/>
                    </a:lnTo>
                    <a:lnTo>
                      <a:pt x="1012" y="331"/>
                    </a:lnTo>
                    <a:lnTo>
                      <a:pt x="1017" y="315"/>
                    </a:lnTo>
                    <a:lnTo>
                      <a:pt x="1022" y="303"/>
                    </a:lnTo>
                    <a:lnTo>
                      <a:pt x="1029" y="291"/>
                    </a:lnTo>
                    <a:lnTo>
                      <a:pt x="1039" y="278"/>
                    </a:lnTo>
                    <a:lnTo>
                      <a:pt x="1050" y="265"/>
                    </a:lnTo>
                    <a:lnTo>
                      <a:pt x="1064" y="254"/>
                    </a:lnTo>
                    <a:lnTo>
                      <a:pt x="1079" y="245"/>
                    </a:lnTo>
                    <a:lnTo>
                      <a:pt x="1093" y="240"/>
                    </a:lnTo>
                    <a:lnTo>
                      <a:pt x="1107" y="236"/>
                    </a:lnTo>
                    <a:lnTo>
                      <a:pt x="1122" y="234"/>
                    </a:lnTo>
                    <a:lnTo>
                      <a:pt x="1140" y="234"/>
                    </a:lnTo>
                    <a:lnTo>
                      <a:pt x="1158" y="234"/>
                    </a:ln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426880" y="20267280"/>
                <a:ext cx="1162440" cy="1324800"/>
              </a:xfrm>
              <a:custGeom>
                <a:avLst/>
                <a:gdLst/>
                <a:ahLst/>
                <a:rect l="l" t="t" r="r" b="b"/>
                <a:pathLst>
                  <a:path w="1284" h="1407">
                    <a:moveTo>
                      <a:pt x="489" y="294"/>
                    </a:moveTo>
                    <a:lnTo>
                      <a:pt x="502" y="278"/>
                    </a:lnTo>
                    <a:lnTo>
                      <a:pt x="511" y="263"/>
                    </a:lnTo>
                    <a:lnTo>
                      <a:pt x="516" y="246"/>
                    </a:lnTo>
                    <a:lnTo>
                      <a:pt x="516" y="224"/>
                    </a:lnTo>
                    <a:lnTo>
                      <a:pt x="510" y="199"/>
                    </a:lnTo>
                    <a:lnTo>
                      <a:pt x="505" y="178"/>
                    </a:lnTo>
                    <a:lnTo>
                      <a:pt x="498" y="152"/>
                    </a:lnTo>
                    <a:lnTo>
                      <a:pt x="495" y="124"/>
                    </a:lnTo>
                    <a:lnTo>
                      <a:pt x="498" y="107"/>
                    </a:lnTo>
                    <a:lnTo>
                      <a:pt x="503" y="86"/>
                    </a:lnTo>
                    <a:lnTo>
                      <a:pt x="513" y="64"/>
                    </a:lnTo>
                    <a:lnTo>
                      <a:pt x="527" y="43"/>
                    </a:lnTo>
                    <a:lnTo>
                      <a:pt x="545" y="26"/>
                    </a:lnTo>
                    <a:lnTo>
                      <a:pt x="561" y="13"/>
                    </a:lnTo>
                    <a:lnTo>
                      <a:pt x="583" y="5"/>
                    </a:lnTo>
                    <a:lnTo>
                      <a:pt x="609" y="1"/>
                    </a:lnTo>
                    <a:lnTo>
                      <a:pt x="637" y="0"/>
                    </a:lnTo>
                    <a:lnTo>
                      <a:pt x="675" y="0"/>
                    </a:lnTo>
                    <a:lnTo>
                      <a:pt x="705" y="3"/>
                    </a:lnTo>
                    <a:lnTo>
                      <a:pt x="722" y="9"/>
                    </a:lnTo>
                    <a:lnTo>
                      <a:pt x="735" y="17"/>
                    </a:lnTo>
                    <a:lnTo>
                      <a:pt x="749" y="26"/>
                    </a:lnTo>
                    <a:lnTo>
                      <a:pt x="763" y="40"/>
                    </a:lnTo>
                    <a:lnTo>
                      <a:pt x="776" y="58"/>
                    </a:lnTo>
                    <a:lnTo>
                      <a:pt x="786" y="74"/>
                    </a:lnTo>
                    <a:lnTo>
                      <a:pt x="791" y="88"/>
                    </a:lnTo>
                    <a:lnTo>
                      <a:pt x="795" y="112"/>
                    </a:lnTo>
                    <a:lnTo>
                      <a:pt x="795" y="133"/>
                    </a:lnTo>
                    <a:lnTo>
                      <a:pt x="792" y="154"/>
                    </a:lnTo>
                    <a:lnTo>
                      <a:pt x="788" y="170"/>
                    </a:lnTo>
                    <a:lnTo>
                      <a:pt x="783" y="196"/>
                    </a:lnTo>
                    <a:lnTo>
                      <a:pt x="776" y="223"/>
                    </a:lnTo>
                    <a:lnTo>
                      <a:pt x="773" y="240"/>
                    </a:lnTo>
                    <a:lnTo>
                      <a:pt x="778" y="257"/>
                    </a:lnTo>
                    <a:lnTo>
                      <a:pt x="784" y="269"/>
                    </a:lnTo>
                    <a:lnTo>
                      <a:pt x="795" y="285"/>
                    </a:lnTo>
                    <a:lnTo>
                      <a:pt x="811" y="298"/>
                    </a:lnTo>
                    <a:lnTo>
                      <a:pt x="826" y="309"/>
                    </a:lnTo>
                    <a:lnTo>
                      <a:pt x="848" y="318"/>
                    </a:lnTo>
                    <a:lnTo>
                      <a:pt x="870" y="324"/>
                    </a:lnTo>
                    <a:lnTo>
                      <a:pt x="891" y="329"/>
                    </a:lnTo>
                    <a:lnTo>
                      <a:pt x="913" y="332"/>
                    </a:lnTo>
                    <a:lnTo>
                      <a:pt x="936" y="338"/>
                    </a:lnTo>
                    <a:lnTo>
                      <a:pt x="954" y="344"/>
                    </a:lnTo>
                    <a:lnTo>
                      <a:pt x="968" y="351"/>
                    </a:lnTo>
                    <a:lnTo>
                      <a:pt x="979" y="359"/>
                    </a:lnTo>
                    <a:lnTo>
                      <a:pt x="987" y="368"/>
                    </a:lnTo>
                    <a:lnTo>
                      <a:pt x="993" y="379"/>
                    </a:lnTo>
                    <a:lnTo>
                      <a:pt x="998" y="392"/>
                    </a:lnTo>
                    <a:lnTo>
                      <a:pt x="1000" y="404"/>
                    </a:lnTo>
                    <a:lnTo>
                      <a:pt x="1002" y="415"/>
                    </a:lnTo>
                    <a:lnTo>
                      <a:pt x="1002" y="430"/>
                    </a:lnTo>
                    <a:lnTo>
                      <a:pt x="1000" y="447"/>
                    </a:lnTo>
                    <a:lnTo>
                      <a:pt x="1000" y="460"/>
                    </a:lnTo>
                    <a:lnTo>
                      <a:pt x="1003" y="476"/>
                    </a:lnTo>
                    <a:lnTo>
                      <a:pt x="1010" y="490"/>
                    </a:lnTo>
                    <a:lnTo>
                      <a:pt x="1018" y="502"/>
                    </a:lnTo>
                    <a:lnTo>
                      <a:pt x="1028" y="511"/>
                    </a:lnTo>
                    <a:lnTo>
                      <a:pt x="1041" y="521"/>
                    </a:lnTo>
                    <a:lnTo>
                      <a:pt x="1054" y="527"/>
                    </a:lnTo>
                    <a:lnTo>
                      <a:pt x="1074" y="531"/>
                    </a:lnTo>
                    <a:lnTo>
                      <a:pt x="1091" y="533"/>
                    </a:lnTo>
                    <a:lnTo>
                      <a:pt x="1107" y="534"/>
                    </a:lnTo>
                    <a:lnTo>
                      <a:pt x="1125" y="533"/>
                    </a:lnTo>
                    <a:lnTo>
                      <a:pt x="1147" y="531"/>
                    </a:lnTo>
                    <a:lnTo>
                      <a:pt x="1164" y="530"/>
                    </a:lnTo>
                    <a:lnTo>
                      <a:pt x="1181" y="528"/>
                    </a:lnTo>
                    <a:lnTo>
                      <a:pt x="1197" y="527"/>
                    </a:lnTo>
                    <a:lnTo>
                      <a:pt x="1216" y="528"/>
                    </a:lnTo>
                    <a:lnTo>
                      <a:pt x="1226" y="530"/>
                    </a:lnTo>
                    <a:lnTo>
                      <a:pt x="1238" y="533"/>
                    </a:lnTo>
                    <a:lnTo>
                      <a:pt x="1249" y="539"/>
                    </a:lnTo>
                    <a:lnTo>
                      <a:pt x="1261" y="548"/>
                    </a:lnTo>
                    <a:lnTo>
                      <a:pt x="1270" y="558"/>
                    </a:lnTo>
                    <a:lnTo>
                      <a:pt x="1277" y="573"/>
                    </a:lnTo>
                    <a:lnTo>
                      <a:pt x="1280" y="586"/>
                    </a:lnTo>
                    <a:lnTo>
                      <a:pt x="1282" y="602"/>
                    </a:lnTo>
                    <a:lnTo>
                      <a:pt x="1284" y="631"/>
                    </a:lnTo>
                    <a:lnTo>
                      <a:pt x="1283" y="665"/>
                    </a:lnTo>
                    <a:lnTo>
                      <a:pt x="1284" y="701"/>
                    </a:lnTo>
                    <a:lnTo>
                      <a:pt x="1281" y="743"/>
                    </a:lnTo>
                    <a:lnTo>
                      <a:pt x="1278" y="772"/>
                    </a:lnTo>
                    <a:lnTo>
                      <a:pt x="1275" y="795"/>
                    </a:lnTo>
                    <a:lnTo>
                      <a:pt x="1270" y="808"/>
                    </a:lnTo>
                    <a:lnTo>
                      <a:pt x="1262" y="820"/>
                    </a:lnTo>
                    <a:lnTo>
                      <a:pt x="1253" y="828"/>
                    </a:lnTo>
                    <a:lnTo>
                      <a:pt x="1241" y="835"/>
                    </a:lnTo>
                    <a:lnTo>
                      <a:pt x="1227" y="839"/>
                    </a:lnTo>
                    <a:lnTo>
                      <a:pt x="1215" y="842"/>
                    </a:lnTo>
                    <a:lnTo>
                      <a:pt x="1190" y="843"/>
                    </a:lnTo>
                    <a:lnTo>
                      <a:pt x="1168" y="842"/>
                    </a:lnTo>
                    <a:lnTo>
                      <a:pt x="1150" y="839"/>
                    </a:lnTo>
                    <a:lnTo>
                      <a:pt x="1134" y="838"/>
                    </a:lnTo>
                    <a:lnTo>
                      <a:pt x="1116" y="837"/>
                    </a:lnTo>
                    <a:lnTo>
                      <a:pt x="1100" y="837"/>
                    </a:lnTo>
                    <a:lnTo>
                      <a:pt x="1086" y="838"/>
                    </a:lnTo>
                    <a:lnTo>
                      <a:pt x="1071" y="839"/>
                    </a:lnTo>
                    <a:lnTo>
                      <a:pt x="1053" y="844"/>
                    </a:lnTo>
                    <a:lnTo>
                      <a:pt x="1043" y="848"/>
                    </a:lnTo>
                    <a:lnTo>
                      <a:pt x="1034" y="852"/>
                    </a:lnTo>
                    <a:lnTo>
                      <a:pt x="1022" y="860"/>
                    </a:lnTo>
                    <a:lnTo>
                      <a:pt x="1014" y="870"/>
                    </a:lnTo>
                    <a:lnTo>
                      <a:pt x="1008" y="879"/>
                    </a:lnTo>
                    <a:lnTo>
                      <a:pt x="1002" y="890"/>
                    </a:lnTo>
                    <a:lnTo>
                      <a:pt x="999" y="901"/>
                    </a:lnTo>
                    <a:lnTo>
                      <a:pt x="998" y="913"/>
                    </a:lnTo>
                    <a:lnTo>
                      <a:pt x="999" y="926"/>
                    </a:lnTo>
                    <a:lnTo>
                      <a:pt x="999" y="948"/>
                    </a:lnTo>
                    <a:lnTo>
                      <a:pt x="998" y="971"/>
                    </a:lnTo>
                    <a:lnTo>
                      <a:pt x="992" y="988"/>
                    </a:lnTo>
                    <a:lnTo>
                      <a:pt x="986" y="1002"/>
                    </a:lnTo>
                    <a:lnTo>
                      <a:pt x="977" y="1012"/>
                    </a:lnTo>
                    <a:lnTo>
                      <a:pt x="964" y="1020"/>
                    </a:lnTo>
                    <a:lnTo>
                      <a:pt x="951" y="1027"/>
                    </a:lnTo>
                    <a:lnTo>
                      <a:pt x="936" y="1031"/>
                    </a:lnTo>
                    <a:lnTo>
                      <a:pt x="917" y="1035"/>
                    </a:lnTo>
                    <a:lnTo>
                      <a:pt x="901" y="1040"/>
                    </a:lnTo>
                    <a:lnTo>
                      <a:pt x="882" y="1043"/>
                    </a:lnTo>
                    <a:lnTo>
                      <a:pt x="866" y="1046"/>
                    </a:lnTo>
                    <a:lnTo>
                      <a:pt x="848" y="1050"/>
                    </a:lnTo>
                    <a:lnTo>
                      <a:pt x="834" y="1057"/>
                    </a:lnTo>
                    <a:lnTo>
                      <a:pt x="818" y="1064"/>
                    </a:lnTo>
                    <a:lnTo>
                      <a:pt x="803" y="1073"/>
                    </a:lnTo>
                    <a:lnTo>
                      <a:pt x="792" y="1085"/>
                    </a:lnTo>
                    <a:lnTo>
                      <a:pt x="782" y="1099"/>
                    </a:lnTo>
                    <a:lnTo>
                      <a:pt x="774" y="1116"/>
                    </a:lnTo>
                    <a:lnTo>
                      <a:pt x="772" y="1131"/>
                    </a:lnTo>
                    <a:lnTo>
                      <a:pt x="773" y="1148"/>
                    </a:lnTo>
                    <a:lnTo>
                      <a:pt x="776" y="1164"/>
                    </a:lnTo>
                    <a:lnTo>
                      <a:pt x="781" y="1181"/>
                    </a:lnTo>
                    <a:lnTo>
                      <a:pt x="785" y="1200"/>
                    </a:lnTo>
                    <a:lnTo>
                      <a:pt x="788" y="1217"/>
                    </a:lnTo>
                    <a:lnTo>
                      <a:pt x="792" y="1239"/>
                    </a:lnTo>
                    <a:lnTo>
                      <a:pt x="792" y="1261"/>
                    </a:lnTo>
                    <a:lnTo>
                      <a:pt x="787" y="1283"/>
                    </a:lnTo>
                    <a:lnTo>
                      <a:pt x="782" y="1300"/>
                    </a:lnTo>
                    <a:lnTo>
                      <a:pt x="776" y="1317"/>
                    </a:lnTo>
                    <a:lnTo>
                      <a:pt x="768" y="1333"/>
                    </a:lnTo>
                    <a:lnTo>
                      <a:pt x="757" y="1353"/>
                    </a:lnTo>
                    <a:lnTo>
                      <a:pt x="745" y="1366"/>
                    </a:lnTo>
                    <a:lnTo>
                      <a:pt x="735" y="1375"/>
                    </a:lnTo>
                    <a:lnTo>
                      <a:pt x="722" y="1386"/>
                    </a:lnTo>
                    <a:lnTo>
                      <a:pt x="708" y="1396"/>
                    </a:lnTo>
                    <a:lnTo>
                      <a:pt x="695" y="1401"/>
                    </a:lnTo>
                    <a:lnTo>
                      <a:pt x="683" y="1404"/>
                    </a:lnTo>
                    <a:lnTo>
                      <a:pt x="663" y="1406"/>
                    </a:lnTo>
                    <a:lnTo>
                      <a:pt x="640" y="1407"/>
                    </a:lnTo>
                    <a:lnTo>
                      <a:pt x="612" y="1406"/>
                    </a:lnTo>
                    <a:lnTo>
                      <a:pt x="599" y="1406"/>
                    </a:lnTo>
                    <a:lnTo>
                      <a:pt x="582" y="1403"/>
                    </a:lnTo>
                    <a:lnTo>
                      <a:pt x="564" y="1398"/>
                    </a:lnTo>
                    <a:lnTo>
                      <a:pt x="548" y="1389"/>
                    </a:lnTo>
                    <a:lnTo>
                      <a:pt x="538" y="1381"/>
                    </a:lnTo>
                    <a:lnTo>
                      <a:pt x="527" y="1370"/>
                    </a:lnTo>
                    <a:lnTo>
                      <a:pt x="518" y="1360"/>
                    </a:lnTo>
                    <a:lnTo>
                      <a:pt x="509" y="1347"/>
                    </a:lnTo>
                    <a:lnTo>
                      <a:pt x="502" y="1334"/>
                    </a:lnTo>
                    <a:lnTo>
                      <a:pt x="496" y="1318"/>
                    </a:lnTo>
                    <a:lnTo>
                      <a:pt x="493" y="1301"/>
                    </a:lnTo>
                    <a:lnTo>
                      <a:pt x="492" y="1288"/>
                    </a:lnTo>
                    <a:lnTo>
                      <a:pt x="492" y="1270"/>
                    </a:lnTo>
                    <a:lnTo>
                      <a:pt x="493" y="1255"/>
                    </a:lnTo>
                    <a:lnTo>
                      <a:pt x="498" y="1239"/>
                    </a:lnTo>
                    <a:lnTo>
                      <a:pt x="502" y="1220"/>
                    </a:lnTo>
                    <a:lnTo>
                      <a:pt x="507" y="1202"/>
                    </a:lnTo>
                    <a:lnTo>
                      <a:pt x="510" y="1186"/>
                    </a:lnTo>
                    <a:lnTo>
                      <a:pt x="511" y="1171"/>
                    </a:lnTo>
                    <a:lnTo>
                      <a:pt x="510" y="1159"/>
                    </a:lnTo>
                    <a:lnTo>
                      <a:pt x="507" y="1147"/>
                    </a:lnTo>
                    <a:lnTo>
                      <a:pt x="499" y="1132"/>
                    </a:lnTo>
                    <a:lnTo>
                      <a:pt x="491" y="1122"/>
                    </a:lnTo>
                    <a:lnTo>
                      <a:pt x="481" y="1111"/>
                    </a:lnTo>
                    <a:lnTo>
                      <a:pt x="470" y="1103"/>
                    </a:lnTo>
                    <a:lnTo>
                      <a:pt x="459" y="1095"/>
                    </a:lnTo>
                    <a:lnTo>
                      <a:pt x="443" y="1089"/>
                    </a:lnTo>
                    <a:lnTo>
                      <a:pt x="429" y="1085"/>
                    </a:lnTo>
                    <a:lnTo>
                      <a:pt x="411" y="1081"/>
                    </a:lnTo>
                    <a:lnTo>
                      <a:pt x="395" y="1079"/>
                    </a:lnTo>
                    <a:lnTo>
                      <a:pt x="380" y="1075"/>
                    </a:lnTo>
                    <a:lnTo>
                      <a:pt x="362" y="1071"/>
                    </a:lnTo>
                    <a:lnTo>
                      <a:pt x="347" y="1065"/>
                    </a:lnTo>
                    <a:lnTo>
                      <a:pt x="329" y="1060"/>
                    </a:lnTo>
                    <a:lnTo>
                      <a:pt x="315" y="1054"/>
                    </a:lnTo>
                    <a:lnTo>
                      <a:pt x="304" y="1045"/>
                    </a:lnTo>
                    <a:lnTo>
                      <a:pt x="295" y="1033"/>
                    </a:lnTo>
                    <a:lnTo>
                      <a:pt x="289" y="1018"/>
                    </a:lnTo>
                    <a:lnTo>
                      <a:pt x="284" y="998"/>
                    </a:lnTo>
                    <a:lnTo>
                      <a:pt x="283" y="982"/>
                    </a:lnTo>
                    <a:lnTo>
                      <a:pt x="284" y="964"/>
                    </a:lnTo>
                    <a:lnTo>
                      <a:pt x="286" y="950"/>
                    </a:lnTo>
                    <a:lnTo>
                      <a:pt x="284" y="933"/>
                    </a:lnTo>
                    <a:lnTo>
                      <a:pt x="279" y="920"/>
                    </a:lnTo>
                    <a:lnTo>
                      <a:pt x="270" y="906"/>
                    </a:lnTo>
                    <a:lnTo>
                      <a:pt x="261" y="897"/>
                    </a:lnTo>
                    <a:lnTo>
                      <a:pt x="250" y="888"/>
                    </a:lnTo>
                    <a:lnTo>
                      <a:pt x="235" y="882"/>
                    </a:lnTo>
                    <a:lnTo>
                      <a:pt x="218" y="876"/>
                    </a:lnTo>
                    <a:lnTo>
                      <a:pt x="200" y="874"/>
                    </a:lnTo>
                    <a:lnTo>
                      <a:pt x="185" y="872"/>
                    </a:lnTo>
                    <a:lnTo>
                      <a:pt x="168" y="872"/>
                    </a:lnTo>
                    <a:lnTo>
                      <a:pt x="153" y="874"/>
                    </a:lnTo>
                    <a:lnTo>
                      <a:pt x="138" y="875"/>
                    </a:lnTo>
                    <a:lnTo>
                      <a:pt x="123" y="877"/>
                    </a:lnTo>
                    <a:lnTo>
                      <a:pt x="108" y="879"/>
                    </a:lnTo>
                    <a:lnTo>
                      <a:pt x="83" y="879"/>
                    </a:lnTo>
                    <a:lnTo>
                      <a:pt x="67" y="878"/>
                    </a:lnTo>
                    <a:lnTo>
                      <a:pt x="50" y="874"/>
                    </a:lnTo>
                    <a:lnTo>
                      <a:pt x="38" y="868"/>
                    </a:lnTo>
                    <a:lnTo>
                      <a:pt x="25" y="858"/>
                    </a:lnTo>
                    <a:lnTo>
                      <a:pt x="16" y="847"/>
                    </a:lnTo>
                    <a:lnTo>
                      <a:pt x="10" y="835"/>
                    </a:lnTo>
                    <a:lnTo>
                      <a:pt x="3" y="812"/>
                    </a:lnTo>
                    <a:lnTo>
                      <a:pt x="2" y="788"/>
                    </a:lnTo>
                    <a:lnTo>
                      <a:pt x="1" y="764"/>
                    </a:lnTo>
                    <a:lnTo>
                      <a:pt x="0" y="734"/>
                    </a:lnTo>
                    <a:lnTo>
                      <a:pt x="2" y="708"/>
                    </a:lnTo>
                    <a:lnTo>
                      <a:pt x="3" y="680"/>
                    </a:lnTo>
                    <a:lnTo>
                      <a:pt x="4" y="655"/>
                    </a:lnTo>
                    <a:lnTo>
                      <a:pt x="6" y="629"/>
                    </a:lnTo>
                    <a:lnTo>
                      <a:pt x="9" y="609"/>
                    </a:lnTo>
                    <a:lnTo>
                      <a:pt x="12" y="587"/>
                    </a:lnTo>
                    <a:lnTo>
                      <a:pt x="16" y="570"/>
                    </a:lnTo>
                    <a:lnTo>
                      <a:pt x="22" y="559"/>
                    </a:lnTo>
                    <a:lnTo>
                      <a:pt x="31" y="548"/>
                    </a:lnTo>
                    <a:lnTo>
                      <a:pt x="40" y="541"/>
                    </a:lnTo>
                    <a:lnTo>
                      <a:pt x="52" y="533"/>
                    </a:lnTo>
                    <a:lnTo>
                      <a:pt x="63" y="531"/>
                    </a:lnTo>
                    <a:lnTo>
                      <a:pt x="77" y="528"/>
                    </a:lnTo>
                    <a:lnTo>
                      <a:pt x="95" y="527"/>
                    </a:lnTo>
                    <a:lnTo>
                      <a:pt x="111" y="528"/>
                    </a:lnTo>
                    <a:lnTo>
                      <a:pt x="133" y="531"/>
                    </a:lnTo>
                    <a:lnTo>
                      <a:pt x="152" y="532"/>
                    </a:lnTo>
                    <a:lnTo>
                      <a:pt x="168" y="533"/>
                    </a:lnTo>
                    <a:lnTo>
                      <a:pt x="190" y="534"/>
                    </a:lnTo>
                    <a:lnTo>
                      <a:pt x="213" y="531"/>
                    </a:lnTo>
                    <a:lnTo>
                      <a:pt x="232" y="527"/>
                    </a:lnTo>
                    <a:lnTo>
                      <a:pt x="250" y="520"/>
                    </a:lnTo>
                    <a:lnTo>
                      <a:pt x="262" y="513"/>
                    </a:lnTo>
                    <a:lnTo>
                      <a:pt x="274" y="502"/>
                    </a:lnTo>
                    <a:lnTo>
                      <a:pt x="283" y="488"/>
                    </a:lnTo>
                    <a:lnTo>
                      <a:pt x="289" y="474"/>
                    </a:lnTo>
                    <a:lnTo>
                      <a:pt x="291" y="459"/>
                    </a:lnTo>
                    <a:lnTo>
                      <a:pt x="290" y="448"/>
                    </a:lnTo>
                    <a:lnTo>
                      <a:pt x="289" y="427"/>
                    </a:lnTo>
                    <a:lnTo>
                      <a:pt x="290" y="406"/>
                    </a:lnTo>
                    <a:lnTo>
                      <a:pt x="294" y="390"/>
                    </a:lnTo>
                    <a:lnTo>
                      <a:pt x="299" y="375"/>
                    </a:lnTo>
                    <a:lnTo>
                      <a:pt x="306" y="364"/>
                    </a:lnTo>
                    <a:lnTo>
                      <a:pt x="320" y="353"/>
                    </a:lnTo>
                    <a:lnTo>
                      <a:pt x="335" y="345"/>
                    </a:lnTo>
                    <a:lnTo>
                      <a:pt x="354" y="339"/>
                    </a:lnTo>
                    <a:lnTo>
                      <a:pt x="373" y="334"/>
                    </a:lnTo>
                    <a:lnTo>
                      <a:pt x="389" y="330"/>
                    </a:lnTo>
                    <a:lnTo>
                      <a:pt x="409" y="327"/>
                    </a:lnTo>
                    <a:lnTo>
                      <a:pt x="428" y="323"/>
                    </a:lnTo>
                    <a:lnTo>
                      <a:pt x="450" y="317"/>
                    </a:lnTo>
                    <a:lnTo>
                      <a:pt x="471" y="308"/>
                    </a:lnTo>
                    <a:lnTo>
                      <a:pt x="489" y="294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339840" y="20855160"/>
                <a:ext cx="1047960" cy="885600"/>
              </a:xfrm>
              <a:custGeom>
                <a:avLst/>
                <a:gdLst/>
                <a:ahLst/>
                <a:rect l="l" t="t" r="r" b="b"/>
                <a:pathLst>
                  <a:path w="1158" h="940">
                    <a:moveTo>
                      <a:pt x="0" y="743"/>
                    </a:moveTo>
                    <a:lnTo>
                      <a:pt x="0" y="940"/>
                    </a:lnTo>
                    <a:lnTo>
                      <a:pt x="1158" y="940"/>
                    </a:lnTo>
                    <a:lnTo>
                      <a:pt x="1157" y="0"/>
                    </a:lnTo>
                    <a:lnTo>
                      <a:pt x="1054" y="0"/>
                    </a:lnTo>
                    <a:lnTo>
                      <a:pt x="1049" y="18"/>
                    </a:lnTo>
                    <a:lnTo>
                      <a:pt x="1049" y="31"/>
                    </a:lnTo>
                    <a:lnTo>
                      <a:pt x="1052" y="49"/>
                    </a:lnTo>
                    <a:lnTo>
                      <a:pt x="1058" y="68"/>
                    </a:lnTo>
                    <a:lnTo>
                      <a:pt x="1064" y="91"/>
                    </a:lnTo>
                    <a:lnTo>
                      <a:pt x="1067" y="109"/>
                    </a:lnTo>
                    <a:lnTo>
                      <a:pt x="1067" y="125"/>
                    </a:lnTo>
                    <a:lnTo>
                      <a:pt x="1065" y="143"/>
                    </a:lnTo>
                    <a:lnTo>
                      <a:pt x="1060" y="160"/>
                    </a:lnTo>
                    <a:lnTo>
                      <a:pt x="1049" y="176"/>
                    </a:lnTo>
                    <a:lnTo>
                      <a:pt x="1036" y="190"/>
                    </a:lnTo>
                    <a:lnTo>
                      <a:pt x="1022" y="203"/>
                    </a:lnTo>
                    <a:lnTo>
                      <a:pt x="1006" y="212"/>
                    </a:lnTo>
                    <a:lnTo>
                      <a:pt x="987" y="219"/>
                    </a:lnTo>
                    <a:lnTo>
                      <a:pt x="970" y="223"/>
                    </a:lnTo>
                    <a:lnTo>
                      <a:pt x="946" y="224"/>
                    </a:lnTo>
                    <a:lnTo>
                      <a:pt x="918" y="222"/>
                    </a:lnTo>
                    <a:lnTo>
                      <a:pt x="900" y="219"/>
                    </a:lnTo>
                    <a:lnTo>
                      <a:pt x="884" y="215"/>
                    </a:lnTo>
                    <a:lnTo>
                      <a:pt x="869" y="206"/>
                    </a:lnTo>
                    <a:lnTo>
                      <a:pt x="850" y="191"/>
                    </a:lnTo>
                    <a:lnTo>
                      <a:pt x="838" y="177"/>
                    </a:lnTo>
                    <a:lnTo>
                      <a:pt x="827" y="162"/>
                    </a:lnTo>
                    <a:lnTo>
                      <a:pt x="821" y="146"/>
                    </a:lnTo>
                    <a:lnTo>
                      <a:pt x="817" y="131"/>
                    </a:lnTo>
                    <a:lnTo>
                      <a:pt x="817" y="114"/>
                    </a:lnTo>
                    <a:lnTo>
                      <a:pt x="819" y="97"/>
                    </a:lnTo>
                    <a:lnTo>
                      <a:pt x="823" y="81"/>
                    </a:lnTo>
                    <a:lnTo>
                      <a:pt x="827" y="66"/>
                    </a:lnTo>
                    <a:lnTo>
                      <a:pt x="832" y="50"/>
                    </a:lnTo>
                    <a:lnTo>
                      <a:pt x="835" y="34"/>
                    </a:lnTo>
                    <a:lnTo>
                      <a:pt x="835" y="20"/>
                    </a:lnTo>
                    <a:lnTo>
                      <a:pt x="831" y="4"/>
                    </a:lnTo>
                    <a:lnTo>
                      <a:pt x="637" y="4"/>
                    </a:lnTo>
                    <a:lnTo>
                      <a:pt x="639" y="37"/>
                    </a:lnTo>
                    <a:lnTo>
                      <a:pt x="637" y="60"/>
                    </a:lnTo>
                    <a:lnTo>
                      <a:pt x="636" y="79"/>
                    </a:lnTo>
                    <a:lnTo>
                      <a:pt x="636" y="96"/>
                    </a:lnTo>
                    <a:lnTo>
                      <a:pt x="634" y="114"/>
                    </a:lnTo>
                    <a:lnTo>
                      <a:pt x="630" y="132"/>
                    </a:lnTo>
                    <a:lnTo>
                      <a:pt x="625" y="144"/>
                    </a:lnTo>
                    <a:lnTo>
                      <a:pt x="618" y="155"/>
                    </a:lnTo>
                    <a:lnTo>
                      <a:pt x="608" y="164"/>
                    </a:lnTo>
                    <a:lnTo>
                      <a:pt x="597" y="171"/>
                    </a:lnTo>
                    <a:lnTo>
                      <a:pt x="584" y="175"/>
                    </a:lnTo>
                    <a:lnTo>
                      <a:pt x="570" y="177"/>
                    </a:lnTo>
                    <a:lnTo>
                      <a:pt x="557" y="178"/>
                    </a:lnTo>
                    <a:lnTo>
                      <a:pt x="540" y="178"/>
                    </a:lnTo>
                    <a:lnTo>
                      <a:pt x="524" y="176"/>
                    </a:lnTo>
                    <a:lnTo>
                      <a:pt x="511" y="175"/>
                    </a:lnTo>
                    <a:lnTo>
                      <a:pt x="494" y="174"/>
                    </a:lnTo>
                    <a:lnTo>
                      <a:pt x="476" y="172"/>
                    </a:lnTo>
                    <a:lnTo>
                      <a:pt x="456" y="172"/>
                    </a:lnTo>
                    <a:lnTo>
                      <a:pt x="439" y="174"/>
                    </a:lnTo>
                    <a:lnTo>
                      <a:pt x="422" y="176"/>
                    </a:lnTo>
                    <a:lnTo>
                      <a:pt x="404" y="181"/>
                    </a:lnTo>
                    <a:lnTo>
                      <a:pt x="391" y="188"/>
                    </a:lnTo>
                    <a:lnTo>
                      <a:pt x="377" y="197"/>
                    </a:lnTo>
                    <a:lnTo>
                      <a:pt x="368" y="209"/>
                    </a:lnTo>
                    <a:lnTo>
                      <a:pt x="359" y="222"/>
                    </a:lnTo>
                    <a:lnTo>
                      <a:pt x="355" y="235"/>
                    </a:lnTo>
                    <a:lnTo>
                      <a:pt x="353" y="250"/>
                    </a:lnTo>
                    <a:lnTo>
                      <a:pt x="355" y="265"/>
                    </a:lnTo>
                    <a:lnTo>
                      <a:pt x="356" y="281"/>
                    </a:lnTo>
                    <a:lnTo>
                      <a:pt x="355" y="298"/>
                    </a:lnTo>
                    <a:lnTo>
                      <a:pt x="352" y="311"/>
                    </a:lnTo>
                    <a:lnTo>
                      <a:pt x="348" y="325"/>
                    </a:lnTo>
                    <a:lnTo>
                      <a:pt x="342" y="338"/>
                    </a:lnTo>
                    <a:lnTo>
                      <a:pt x="334" y="347"/>
                    </a:lnTo>
                    <a:lnTo>
                      <a:pt x="321" y="356"/>
                    </a:lnTo>
                    <a:lnTo>
                      <a:pt x="305" y="362"/>
                    </a:lnTo>
                    <a:lnTo>
                      <a:pt x="289" y="367"/>
                    </a:lnTo>
                    <a:lnTo>
                      <a:pt x="274" y="371"/>
                    </a:lnTo>
                    <a:lnTo>
                      <a:pt x="258" y="375"/>
                    </a:lnTo>
                    <a:lnTo>
                      <a:pt x="237" y="379"/>
                    </a:lnTo>
                    <a:lnTo>
                      <a:pt x="221" y="382"/>
                    </a:lnTo>
                    <a:lnTo>
                      <a:pt x="204" y="387"/>
                    </a:lnTo>
                    <a:lnTo>
                      <a:pt x="190" y="392"/>
                    </a:lnTo>
                    <a:lnTo>
                      <a:pt x="176" y="398"/>
                    </a:lnTo>
                    <a:lnTo>
                      <a:pt x="165" y="406"/>
                    </a:lnTo>
                    <a:lnTo>
                      <a:pt x="155" y="414"/>
                    </a:lnTo>
                    <a:lnTo>
                      <a:pt x="144" y="427"/>
                    </a:lnTo>
                    <a:lnTo>
                      <a:pt x="137" y="439"/>
                    </a:lnTo>
                    <a:lnTo>
                      <a:pt x="131" y="453"/>
                    </a:lnTo>
                    <a:lnTo>
                      <a:pt x="128" y="470"/>
                    </a:lnTo>
                    <a:lnTo>
                      <a:pt x="130" y="486"/>
                    </a:lnTo>
                    <a:lnTo>
                      <a:pt x="132" y="502"/>
                    </a:lnTo>
                    <a:lnTo>
                      <a:pt x="137" y="521"/>
                    </a:lnTo>
                    <a:lnTo>
                      <a:pt x="142" y="542"/>
                    </a:lnTo>
                    <a:lnTo>
                      <a:pt x="146" y="561"/>
                    </a:lnTo>
                    <a:lnTo>
                      <a:pt x="148" y="576"/>
                    </a:lnTo>
                    <a:lnTo>
                      <a:pt x="148" y="590"/>
                    </a:lnTo>
                    <a:lnTo>
                      <a:pt x="146" y="609"/>
                    </a:lnTo>
                    <a:lnTo>
                      <a:pt x="141" y="625"/>
                    </a:lnTo>
                    <a:lnTo>
                      <a:pt x="137" y="639"/>
                    </a:lnTo>
                    <a:lnTo>
                      <a:pt x="131" y="652"/>
                    </a:lnTo>
                    <a:lnTo>
                      <a:pt x="123" y="669"/>
                    </a:lnTo>
                    <a:lnTo>
                      <a:pt x="112" y="688"/>
                    </a:lnTo>
                    <a:lnTo>
                      <a:pt x="100" y="702"/>
                    </a:lnTo>
                    <a:lnTo>
                      <a:pt x="88" y="713"/>
                    </a:lnTo>
                    <a:lnTo>
                      <a:pt x="77" y="723"/>
                    </a:lnTo>
                    <a:lnTo>
                      <a:pt x="65" y="731"/>
                    </a:lnTo>
                    <a:lnTo>
                      <a:pt x="53" y="736"/>
                    </a:lnTo>
                    <a:lnTo>
                      <a:pt x="36" y="740"/>
                    </a:lnTo>
                    <a:lnTo>
                      <a:pt x="17" y="743"/>
                    </a:lnTo>
                    <a:lnTo>
                      <a:pt x="0" y="743"/>
                    </a:lnTo>
                    <a:close/>
                  </a:path>
                </a:pathLst>
              </a:custGeom>
              <a:solidFill>
                <a:srgbClr val="ffff99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332560" y="22392000"/>
                <a:ext cx="1136880" cy="983160"/>
              </a:xfrm>
              <a:prstGeom prst="cube">
                <a:avLst>
                  <a:gd name="adj" fmla="val 25000"/>
                </a:avLst>
              </a:prstGeom>
              <a:solidFill>
                <a:srgbClr val="00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rategy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ode Generato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 txBox="1"/>
              <p:nvPr/>
            </p:nvSpPr>
            <p:spPr>
              <a:xfrm rot="5400000">
                <a:off x="25302240" y="20739240"/>
                <a:ext cx="1316520" cy="282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Arial Black"/>
                  </a:rPr>
                  <a:t>XML Parser</a:t>
                </a:r>
                <a:endParaRPr b="0" lang="en-US" sz="2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 rot="5400000">
                <a:off x="27418320" y="20795760"/>
                <a:ext cx="1389240" cy="2430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 vert="eaVert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Arial Black"/>
                  </a:rPr>
                  <a:t>Aspect Parser</a:t>
                </a:r>
                <a:endParaRPr b="0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Arial Black"/>
                  <a:ea typeface="Arial Black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6329680" y="20664360"/>
                <a:ext cx="1348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Strategies (C++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600480" y="22772880"/>
                <a:ext cx="556200" cy="288000"/>
              </a:xfrm>
              <a:prstGeom prst="leftArrow">
                <a:avLst>
                  <a:gd name="adj1" fmla="val 50000"/>
                  <a:gd name="adj2" fmla="val 48281"/>
                </a:avLst>
              </a:prstGeom>
              <a:blipFill rotWithShape="0">
                <a:blip r:embed="rId5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7999360" y="23458320"/>
                <a:ext cx="183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trategy Specific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9044800" y="20625120"/>
                <a:ext cx="1171440" cy="63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pecifica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spe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4038280" y="20752560"/>
                <a:ext cx="132372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(Model Hierarchy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5124040" y="20946240"/>
                <a:ext cx="4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602840" y="19951200"/>
                <a:ext cx="2865960" cy="189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8556280" y="20899800"/>
                <a:ext cx="434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6862480" y="21623760"/>
                <a:ext cx="276480" cy="579240"/>
              </a:xfrm>
              <a:prstGeom prst="upArrow">
                <a:avLst>
                  <a:gd name="adj1" fmla="val 50000"/>
                  <a:gd name="adj2" fmla="val 52376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28252440" y="22557600"/>
                <a:ext cx="1345320" cy="7747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strategy ApplyConstraint(constraintName : string, expression : string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addAtom("OCLConstraint", "Constraint", constraintName).addAttribute("Expression", expression)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strategy RemoveConstraint(constraintName : string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findAtom(constraintName).removeChild()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strategy ReplaceConstraint(constraintName : string, expression : string)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RemoveConstraint(constraintName)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ApplyConstraint(constraintName, expression)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15717960" y="18008640"/>
              <a:ext cx="787968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META-WEAVER FRAMEWORK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719840" y="19182960"/>
              <a:ext cx="7074720" cy="50025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reating New Wea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ach specific GME metamodeling paradigm introduces different types of modeling elements, syntax, and semantics. Therefore, different weavers are needed for different paradigms.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ategies are used to aid in the rapid construction of new domain-specific weavers. ECL constraints can succinctly capture the specification of these strateg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code generator translates the strategies into C++ code that is then compiled within the weaver framework. Each domain can then be considered as being componetized within the weav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995400" y="17988120"/>
            <a:ext cx="14592240" cy="6746760"/>
            <a:chOff x="995400" y="17988120"/>
            <a:chExt cx="14592240" cy="6746760"/>
          </a:xfrm>
        </p:grpSpPr>
        <p:sp>
          <p:nvSpPr>
            <p:cNvPr id="130" name=""/>
            <p:cNvSpPr/>
            <p:nvPr/>
          </p:nvSpPr>
          <p:spPr>
            <a:xfrm>
              <a:off x="1155600" y="18608760"/>
              <a:ext cx="14432040" cy="61261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95400" y="17988120"/>
              <a:ext cx="95360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EMBEDDED CONSTRAINT LANGUAGE (ECL)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53520" y="19345320"/>
              <a:ext cx="6894360" cy="5248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Operations on Model Objec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raditional OCL has been strictly a declarative query langua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w uses require an imperative procedural sty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ition of side effects into mo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ampl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92096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ddAtom(…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findAtom(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92096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ddAttribute(…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findAttribute(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3" marL="192096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removeNode(…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upport for recurs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ining of strategies (procedure call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lined C++ cod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89160" y="19291320"/>
              <a:ext cx="6894360" cy="5313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Properties of E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CL is an extension of the Object Constraint Language (OC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rithmetic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-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lt;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lt;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gt;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&lt;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ogical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and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o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xor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no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implie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if/then/el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 operator (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-&gt;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, Property operator (</a:t>
              </a:r>
              <a:r>
                <a:rPr b="0" lang="en-US" sz="2000" spc="-1" strike="noStrike">
                  <a:solidFill>
                    <a:srgbClr val="ff0000"/>
                  </a:solidFill>
                  <a:latin typeface="Arial"/>
                </a:rPr>
                <a:t>.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erations on collection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size()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: integ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 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forAll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 x | f(x) ) : 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 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exists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 x | f(x) ) : Boolea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llection -&gt;</a:t>
              </a:r>
              <a:r>
                <a:rPr b="0" lang="en-US" sz="2000" spc="-1" strike="noStrike">
                  <a:solidFill>
                    <a:srgbClr val="ff3300"/>
                  </a:solidFill>
                  <a:latin typeface="Arial"/>
                </a:rPr>
                <a:t>selec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 x | f(x) ) : collec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1780360" y="9615600"/>
            <a:ext cx="28389240" cy="7968960"/>
            <a:chOff x="21780360" y="9615600"/>
            <a:chExt cx="28389240" cy="7968960"/>
          </a:xfrm>
        </p:grpSpPr>
        <p:sp>
          <p:nvSpPr>
            <p:cNvPr id="135" name=""/>
            <p:cNvSpPr/>
            <p:nvPr/>
          </p:nvSpPr>
          <p:spPr>
            <a:xfrm>
              <a:off x="22717080" y="10212480"/>
              <a:ext cx="27452520" cy="7372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25817400" y="14644800"/>
              <a:ext cx="6545520" cy="2705040"/>
              <a:chOff x="25817400" y="14644800"/>
              <a:chExt cx="6545520" cy="2705040"/>
            </a:xfrm>
          </p:grpSpPr>
          <p:graphicFrame>
            <p:nvGraphicFramePr>
              <p:cNvPr id="137" name=""/>
              <p:cNvGraphicFramePr/>
              <p:nvPr/>
            </p:nvGraphicFramePr>
            <p:xfrm>
              <a:off x="27851040" y="14644800"/>
              <a:ext cx="1468440" cy="1068480"/>
            </p:xfrm>
            <a:graphic>
              <a:graphicData uri="http://schemas.openxmlformats.org/presentationml/2006/ole">
                <p:oleObj progId="Word.Document.12" r:id="rId6" spid="">
                  <p:embed/>
                  <p:pic>
                    <p:nvPicPr>
                      <p:cNvPr id="13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27851040" y="14644800"/>
                        <a:ext cx="1468440" cy="1068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9" name=""/>
              <p:cNvSpPr/>
              <p:nvPr/>
            </p:nvSpPr>
            <p:spPr>
              <a:xfrm>
                <a:off x="28151280" y="16916760"/>
                <a:ext cx="803160" cy="280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constraint FOOB2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{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// apply a specific constraint to "B2" only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in Structural models("ProcessingCompound")-&gt;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select(p | p.name() == "B*")-&gt;PowerStrategy(1, 100); 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" spc="-1" strike="noStrike">
                    <a:solidFill>
                      <a:srgbClr val="000000"/>
                    </a:solidFill>
                    <a:latin typeface="Times New Roman"/>
                  </a:rPr>
                  <a:t>}</a:t>
                </a:r>
                <a:endParaRPr b="0" lang="en-US" sz="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246320" y="16292520"/>
                <a:ext cx="6573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?xml version="1.0" encoding="UTF-8"?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!DOCTYPE project SYSTEM "mga.dtd"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project guid="{00000000-0000-0000-0000-000000000000}" cdate="Thu Nov 30 14:15:40 2000" mdate="Thu Nov 30 14:15:40 2000" metaguid="{00000000-0000-0000-0000-000000000000}" metaname="PCES"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name&gt;bit1&lt;/nam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comment&gt;&lt;/comment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author&gt;&lt;/autho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folder id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532160" y="15756120"/>
                <a:ext cx="192240" cy="488880"/>
              </a:xfrm>
              <a:prstGeom prst="downArrow">
                <a:avLst>
                  <a:gd name="adj1" fmla="val 50000"/>
                  <a:gd name="adj2" fmla="val 63577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42" name=""/>
              <p:cNvGraphicFramePr/>
              <p:nvPr/>
            </p:nvGraphicFramePr>
            <p:xfrm>
              <a:off x="29835360" y="16283160"/>
              <a:ext cx="898560" cy="1066680"/>
            </p:xfrm>
            <a:graphic>
              <a:graphicData uri="http://schemas.openxmlformats.org/presentationml/2006/ole">
                <p:oleObj progId="Word.Document.12" r:id="rId8" spid="">
                  <p:embed/>
                  <p:pic>
                    <p:nvPicPr>
                      <p:cNvPr id="143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29835360" y="16283160"/>
                        <a:ext cx="898560" cy="1066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44" name=""/>
              <p:cNvSpPr/>
              <p:nvPr/>
            </p:nvSpPr>
            <p:spPr>
              <a:xfrm rot="10800000">
                <a:off x="30206520" y="15587640"/>
                <a:ext cx="182520" cy="603000"/>
              </a:xfrm>
              <a:prstGeom prst="downArrow">
                <a:avLst>
                  <a:gd name="adj1" fmla="val 50000"/>
                  <a:gd name="adj2" fmla="val 82594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16200000">
                <a:off x="29204280" y="16282080"/>
                <a:ext cx="187560" cy="500040"/>
              </a:xfrm>
              <a:prstGeom prst="downArrow">
                <a:avLst>
                  <a:gd name="adj1" fmla="val 50000"/>
                  <a:gd name="adj2" fmla="val 66651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200000">
                <a:off x="29204280" y="16830000"/>
                <a:ext cx="187200" cy="500040"/>
              </a:xfrm>
              <a:prstGeom prst="downArrow">
                <a:avLst>
                  <a:gd name="adj1" fmla="val 50000"/>
                  <a:gd name="adj2" fmla="val 66779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400000">
                <a:off x="29534040" y="14975640"/>
                <a:ext cx="187200" cy="500040"/>
              </a:xfrm>
              <a:prstGeom prst="downArrow">
                <a:avLst>
                  <a:gd name="adj1" fmla="val 50000"/>
                  <a:gd name="adj2" fmla="val 66779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9978280" y="15026040"/>
                <a:ext cx="657360" cy="457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?xml version="1.0" encoding="UTF-8"?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!DOCTYPE project SYSTEM "mga.dtd"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project guid="{00000000-0000-0000-0000-000000000000}" cdate="Thu Nov 30 14:15:40 2000" mdate="Thu Nov 30 14:15:40 2000" metaguid="{00000000-0000-0000-0000-000000000000}" metaname="PCES"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name&gt;bit1&lt;/name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comment&gt;&lt;/comment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Times New Roman"/>
                  </a:rPr>
                  <a:t>&lt;author&gt;&lt;/author&gt;</a:t>
                </a:r>
                <a:endParaRPr b="0" lang="en-US" sz="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5817400" y="14929200"/>
                <a:ext cx="1941480" cy="37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 Graphical Modeling Environme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7047880" y="16375320"/>
                <a:ext cx="1009440" cy="2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FOO.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679600" y="16826040"/>
                <a:ext cx="171108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pecific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spect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0521160" y="14960880"/>
                <a:ext cx="1598760" cy="51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nhanc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FOO.XM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0654720" y="16549920"/>
                <a:ext cx="1708200" cy="40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Domain-Specifi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Weave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1780360" y="9615600"/>
              <a:ext cx="131954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TECHNICAL APPROACH: DOMAIN-SPECIFIC WEAVER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91640" y="10609200"/>
              <a:ext cx="11661840" cy="3538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 Constraint Wea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solution that isolates the constraints as a separate area of concern will improve the manageability of our models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is can be accomplished with a constraint weav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input to the domain-specific constraint weaver consists of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538280" indent="-25884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XML representation of the model, as exported from the GME. This model is most likely void of any constraint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538280" indent="-25884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set of specification aspects provided by the modeler. These are used to specify the locations in the model where constraints are to be added by strategi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he output of the weaving process is a new description of the model in XML that contains new constraints that have been integrated throughout the model by the weave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6555480" y="10607760"/>
              <a:ext cx="12918960" cy="3538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How Constraints are Weav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pecification aspects describe specific points in the model where a strategy is to be applied. This ability to quantify over the model space is similar to a pointcut descriptor in AspectJ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ategies are domain-specific rules for specifying elements of computation, propagation, or application of specific properties to the model node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rategies are generic in the sense that they are not bound to specific nodes in the model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Benef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cause constraints are modularized apart from the models, different sets of specification aspects can be weaved into the same model for experimental “what if” scenario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ecause much of the redundancy of constraint application is removed, the effect of each constraint on the global system can be better understood. This localization of constraints improves modular reasoning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37831680" y="14206680"/>
              <a:ext cx="11738160" cy="3247920"/>
              <a:chOff x="37831680" y="14206680"/>
              <a:chExt cx="11738160" cy="324792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831680" y="14206680"/>
                <a:ext cx="2232000" cy="2359080"/>
                <a:chOff x="37831680" y="14206680"/>
                <a:chExt cx="2232000" cy="235908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38991600" y="14206680"/>
                  <a:ext cx="195480" cy="49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8550960" y="14662080"/>
                  <a:ext cx="604800" cy="550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935000" y="15695640"/>
                  <a:ext cx="479160" cy="385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flipH="1">
                  <a:off x="38260440" y="15113160"/>
                  <a:ext cx="380880" cy="62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8836440" y="15117840"/>
                  <a:ext cx="63720" cy="660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098520" y="15075000"/>
                  <a:ext cx="507960" cy="77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8680920" y="15773400"/>
                  <a:ext cx="479520" cy="385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9400200" y="15697080"/>
                  <a:ext cx="477720" cy="385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8930400" y="15894000"/>
                  <a:ext cx="63360" cy="660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>
                  <a:off x="37831680" y="15773400"/>
                  <a:ext cx="380880" cy="620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555720" y="15792480"/>
                  <a:ext cx="507960" cy="773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41757480" y="14617800"/>
                <a:ext cx="2903760" cy="198936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40186" dir="1096358" blurRad="0" rotWithShape="0">
                  <a:srgbClr val="9999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359640" y="16795800"/>
                <a:ext cx="4210200" cy="64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pecification Aspec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</a:t>
                </a: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for a specific model inst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7877760" y="17022960"/>
                <a:ext cx="2263680" cy="43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Model instanc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1457600" y="17000640"/>
                <a:ext cx="359892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trategies for a specific domai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299160" y="15055920"/>
                <a:ext cx="4079880" cy="1157400"/>
              </a:xfrm>
              <a:prstGeom prst="rect">
                <a:avLst/>
              </a:prstGeom>
              <a:solidFill>
                <a:srgbClr val="ccecff"/>
              </a:solidFill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64080" bIns="6408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lect(p | p.name() == “Model*” &amp;&amp;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.kind() == “StateFlow”)-&gt;Strategy3()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…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1967000" y="14878080"/>
                <a:ext cx="1105200" cy="0"/>
              </a:xfrm>
              <a:prstGeom prst="line">
                <a:avLst/>
              </a:prstGeom>
              <a:ln w="7632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3279920" y="14732280"/>
                <a:ext cx="1355760" cy="184284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8160" rIns="128160" tIns="64080" bIns="6408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ategy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ategy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ategy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trategy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1986080" y="15316560"/>
                <a:ext cx="1105200" cy="0"/>
              </a:xfrm>
              <a:prstGeom prst="line">
                <a:avLst/>
              </a:prstGeom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005160" y="15754680"/>
                <a:ext cx="1104840" cy="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005160" y="16211880"/>
                <a:ext cx="1104840" cy="0"/>
              </a:xfrm>
              <a:prstGeom prst="line">
                <a:avLst/>
              </a:prstGeom>
              <a:ln w="7632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4272080" y="15487920"/>
                <a:ext cx="1105200" cy="266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40309560" y="15792480"/>
                <a:ext cx="1638360" cy="8956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 flipV="1">
                <a:off x="39776040" y="14249520"/>
                <a:ext cx="2171880" cy="15242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39128760" y="14954400"/>
                <a:ext cx="2838240" cy="83808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4" name=""/>
          <p:cNvSpPr/>
          <p:nvPr/>
        </p:nvSpPr>
        <p:spPr>
          <a:xfrm>
            <a:off x="38925360" y="14714640"/>
            <a:ext cx="203400" cy="247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633040" y="14916240"/>
            <a:ext cx="376200" cy="4014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8974680" y="14922360"/>
            <a:ext cx="85680" cy="459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089160" y="14879520"/>
            <a:ext cx="117360" cy="460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1283280" y="17992800"/>
            <a:ext cx="18897120" cy="6653160"/>
            <a:chOff x="31283280" y="17992800"/>
            <a:chExt cx="18897120" cy="6653160"/>
          </a:xfrm>
        </p:grpSpPr>
        <p:sp>
          <p:nvSpPr>
            <p:cNvPr id="189" name=""/>
            <p:cNvSpPr/>
            <p:nvPr/>
          </p:nvSpPr>
          <p:spPr>
            <a:xfrm>
              <a:off x="31454280" y="18608760"/>
              <a:ext cx="18726120" cy="6037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1283280" y="17992800"/>
              <a:ext cx="843084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EXAMPLE: PROCESSOR ASSIGNMENT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1" name="" descr=""/>
            <p:cNvPicPr/>
            <p:nvPr/>
          </p:nvPicPr>
          <p:blipFill>
            <a:blip r:embed="rId10"/>
            <a:stretch/>
          </p:blipFill>
          <p:spPr>
            <a:xfrm>
              <a:off x="39173760" y="18770760"/>
              <a:ext cx="3769200" cy="27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11"/>
            <a:stretch/>
          </p:blipFill>
          <p:spPr>
            <a:xfrm>
              <a:off x="39224520" y="21672720"/>
              <a:ext cx="3650040" cy="274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44190360" y="18846720"/>
              <a:ext cx="5863320" cy="5594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y ApplyConstraint(constraintName : string, expression : string)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addAtom("OCLConstraint", "Constraint", constraintName).addAttribute("Expression", expression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br>
                <a:rPr sz="1000"/>
              </a:b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y Assign(limit : int)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&lt;&lt;static int accumulateWCET = 0; static int processNum = 1; int currentWCET;  &gt;&gt; 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findAtom("compute").findAttributeNode("WCET").getInt(currentWCET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&lt;&lt;accumulateWCET = accumulateWCET + currentWCET; &gt;&gt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if (limit &lt; accumulateWCET) then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&lt;&lt;accumulateWCET = currentWCET; processNum++; &gt;&gt;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ReportNewProcessor(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endif;  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&lt;&lt;CComBSTR aConstraint = "self.assignTo() = processor" + XMLParser::itos(processNum); &gt;&gt;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ApplyConstraint("ProcessConstraint", aConstraint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br>
                <a:rPr sz="1000"/>
              </a:b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rategy ProcessorAssignment(limit : int)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models("Component")-&gt;forAll(Assign(limit));</a:t>
              </a:r>
              <a:br>
                <a:rPr sz="1000"/>
              </a:b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32097600" y="21390120"/>
              <a:ext cx="6351120" cy="3058560"/>
              <a:chOff x="32097600" y="21390120"/>
              <a:chExt cx="6351120" cy="3058560"/>
            </a:xfrm>
          </p:grpSpPr>
          <p:sp>
            <p:nvSpPr>
              <p:cNvPr id="195" name=""/>
              <p:cNvSpPr/>
              <p:nvPr/>
            </p:nvSpPr>
            <p:spPr>
              <a:xfrm>
                <a:off x="35293320" y="23991840"/>
                <a:ext cx="1262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WCET=150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2097600" y="21390120"/>
                <a:ext cx="6351120" cy="2675880"/>
                <a:chOff x="32097600" y="21390120"/>
                <a:chExt cx="6351120" cy="267588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7120680" y="21871080"/>
                  <a:ext cx="1328040" cy="34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tency &lt; 20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7291680" y="22121640"/>
                  <a:ext cx="793800" cy="549000"/>
                </a:xfrm>
                <a:prstGeom prst="rect">
                  <a:avLst/>
                </a:prstGeom>
                <a:solidFill>
                  <a:srgbClr val="5f5f5f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7339200" y="22194720"/>
                  <a:ext cx="700920" cy="4377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5f5f5f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0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37385280" y="22231440"/>
                  <a:ext cx="61812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32763600" y="22267800"/>
                  <a:ext cx="467280" cy="145800"/>
                </a:xfrm>
                <a:prstGeom prst="ellipse">
                  <a:avLst/>
                </a:prstGeom>
                <a:solidFill>
                  <a:srgbClr val="c0c0c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32996520" y="22084920"/>
                  <a:ext cx="0" cy="51228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2669280" y="21390120"/>
                  <a:ext cx="6699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enso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3276600" y="22340880"/>
                  <a:ext cx="65304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33370560" y="23393160"/>
                  <a:ext cx="1727280" cy="548640"/>
                  <a:chOff x="33370560" y="23393160"/>
                  <a:chExt cx="1727280" cy="5486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 flipH="1">
                    <a:off x="33463080" y="23393160"/>
                    <a:ext cx="420120" cy="256320"/>
                  </a:xfrm>
                  <a:prstGeom prst="parallelogram">
                    <a:avLst>
                      <a:gd name="adj" fmla="val 40976"/>
                    </a:avLst>
                  </a:prstGeom>
                  <a:solidFill>
                    <a:srgbClr val="3366ff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33463800" y="23685840"/>
                    <a:ext cx="420120" cy="255960"/>
                  </a:xfrm>
                  <a:prstGeom prst="parallelogram">
                    <a:avLst>
                      <a:gd name="adj" fmla="val 41034"/>
                    </a:avLst>
                  </a:prstGeom>
                  <a:solidFill>
                    <a:srgbClr val="ffffff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33370560" y="23539320"/>
                    <a:ext cx="1727280" cy="2563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ff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" name=""/>
                <p:cNvSpPr/>
                <p:nvPr/>
              </p:nvSpPr>
              <p:spPr>
                <a:xfrm>
                  <a:off x="34267320" y="22678920"/>
                  <a:ext cx="0" cy="77436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5611920" y="21939120"/>
                  <a:ext cx="706680" cy="54756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Updat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ap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4502040" y="22340880"/>
                  <a:ext cx="101412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5564400" y="22647240"/>
                  <a:ext cx="757080" cy="439200"/>
                </a:xfrm>
                <a:prstGeom prst="can">
                  <a:avLst>
                    <a:gd name="adj" fmla="val 25000"/>
                  </a:avLst>
                </a:prstGeom>
                <a:solidFill>
                  <a:srgbClr val="3366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Map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5844840" y="22487040"/>
                  <a:ext cx="280440" cy="256680"/>
                </a:xfrm>
                <a:prstGeom prst="upArrow">
                  <a:avLst>
                    <a:gd name="adj1" fmla="val 50000"/>
                    <a:gd name="adj2" fmla="val 25000"/>
                  </a:avLst>
                </a:prstGeom>
                <a:solidFill>
                  <a:srgbClr val="c0c0c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4072560" y="22075560"/>
                  <a:ext cx="358200" cy="512640"/>
                </a:xfrm>
                <a:prstGeom prst="rect">
                  <a:avLst/>
                </a:prstGeom>
                <a:solidFill>
                  <a:srgbClr val="ffffcc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375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Σ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15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35294760" y="23242680"/>
                  <a:ext cx="1446840" cy="71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6" name=""/>
                <p:cNvSpPr/>
                <p:nvPr/>
              </p:nvSpPr>
              <p:spPr>
                <a:xfrm>
                  <a:off x="35647920" y="23401440"/>
                  <a:ext cx="559440" cy="327960"/>
                </a:xfrm>
                <a:prstGeom prst="rect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5844840" y="23474160"/>
                  <a:ext cx="467640" cy="328320"/>
                </a:xfrm>
                <a:prstGeom prst="rect">
                  <a:avLst/>
                </a:prstGeom>
                <a:noFill/>
                <a:ln w="38160">
                  <a:solidFill>
                    <a:srgbClr val="99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V="1">
                  <a:off x="36031680" y="23108760"/>
                  <a:ext cx="0" cy="364680"/>
                </a:xfrm>
                <a:prstGeom prst="line">
                  <a:avLst/>
                </a:prstGeom>
                <a:ln w="57240">
                  <a:solidFill>
                    <a:srgbClr val="9966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3468840" y="22136040"/>
                  <a:ext cx="139320" cy="10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c0c0c0"/>
                </a:solidFill>
                <a:ln w="1260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4610040" y="22364640"/>
                  <a:ext cx="64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x,y,z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3603480" y="22817160"/>
                  <a:ext cx="64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x,y,z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36358200" y="22340880"/>
                  <a:ext cx="839880" cy="0"/>
                </a:xfrm>
                <a:prstGeom prst="line">
                  <a:avLst/>
                </a:prstGeom>
                <a:ln w="7632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7348200" y="22707360"/>
                  <a:ext cx="738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Displa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2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36451800" y="21902760"/>
                  <a:ext cx="618120" cy="35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5" name=""/>
                <p:cNvSpPr/>
                <p:nvPr/>
              </p:nvSpPr>
              <p:spPr>
                <a:xfrm>
                  <a:off x="36451800" y="22379040"/>
                  <a:ext cx="646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(x,y,z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6" name=""/>
                <p:cNvGrpSpPr/>
                <p:nvPr/>
              </p:nvGrpSpPr>
              <p:grpSpPr>
                <a:xfrm>
                  <a:off x="37666080" y="22379040"/>
                  <a:ext cx="93240" cy="72360"/>
                  <a:chOff x="37666080" y="22379040"/>
                  <a:chExt cx="93240" cy="723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7712520" y="22379040"/>
                    <a:ext cx="0" cy="72360"/>
                  </a:xfrm>
                  <a:prstGeom prst="line">
                    <a:avLst/>
                  </a:prstGeom>
                  <a:ln w="381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37666080" y="22415040"/>
                    <a:ext cx="93240" cy="0"/>
                  </a:xfrm>
                  <a:prstGeom prst="line">
                    <a:avLst/>
                  </a:prstGeom>
                  <a:ln w="38160">
                    <a:solidFill>
                      <a:srgbClr val="ff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>
                  <a:off x="32669640" y="21642480"/>
                  <a:ext cx="70092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00 Hz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3810120" y="21678840"/>
                  <a:ext cx="1172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CET=10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7234800" y="21642480"/>
                  <a:ext cx="1081080" cy="34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CET=1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2097600" y="23507640"/>
                  <a:ext cx="1244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Latency &lt; 5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897880" y="22328280"/>
                  <a:ext cx="326520" cy="72360"/>
                </a:xfrm>
                <a:prstGeom prst="ellipse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33810840" y="23814000"/>
                  <a:ext cx="1081080" cy="25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CET=2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5408520" y="21528000"/>
                  <a:ext cx="1082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1279440"/>
                      <a:tab algn="l" pos="2558880"/>
                      <a:tab algn="l" pos="3838680"/>
                      <a:tab algn="l" pos="5118120"/>
                      <a:tab algn="l" pos="6397560"/>
                      <a:tab algn="l" pos="7677000"/>
                      <a:tab algn="l" pos="8956800"/>
                      <a:tab algn="l" pos="1023624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CET=4m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33582600" y="24105960"/>
                <a:ext cx="1361520" cy="34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1279440"/>
                    <a:tab algn="l" pos="2558880"/>
                    <a:tab algn="l" pos="3838680"/>
                    <a:tab algn="l" pos="5118120"/>
                    <a:tab algn="l" pos="6397560"/>
                    <a:tab algn="l" pos="7677000"/>
                    <a:tab algn="l" pos="8956800"/>
                    <a:tab algn="l" pos="1023624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Weapon Releas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31798080" y="18780120"/>
              <a:ext cx="6719040" cy="2508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Descrip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iven 5 components for a weapons deployment system, this example demonstrates the weaving of constraints that represent the processor assignment for each component. The strategy is based upon the worst-case execution time (WCET) for each componen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5817680" y="3335400"/>
            <a:ext cx="34377480" cy="5719680"/>
            <a:chOff x="15817680" y="3335400"/>
            <a:chExt cx="34377480" cy="5719680"/>
          </a:xfrm>
        </p:grpSpPr>
        <p:sp>
          <p:nvSpPr>
            <p:cNvPr id="239" name=""/>
            <p:cNvSpPr/>
            <p:nvPr/>
          </p:nvSpPr>
          <p:spPr>
            <a:xfrm>
              <a:off x="16940160" y="3956040"/>
              <a:ext cx="33255000" cy="50990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817680" y="3335400"/>
              <a:ext cx="12112920" cy="64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spAutoFit/>
            </a:bodyPr>
            <a:p>
              <a:pPr algn="ctr">
                <a:lnSpc>
                  <a:spcPct val="100000"/>
                </a:lnSpc>
                <a:spcBef>
                  <a:spcPts val="2126"/>
                </a:spcBef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3400" spc="-1" strike="noStrike">
                  <a:solidFill>
                    <a:srgbClr val="000000"/>
                  </a:solidFill>
                  <a:latin typeface="Arial"/>
                </a:rPr>
                <a:t>BACKGROUND:  DOMAIN-SPECIFIC MODELING</a:t>
              </a:r>
              <a:endParaRPr b="0" lang="en-US" sz="3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1" name="" descr=""/>
            <p:cNvPicPr/>
            <p:nvPr/>
          </p:nvPicPr>
          <p:blipFill>
            <a:blip r:embed="rId15"/>
            <a:stretch/>
          </p:blipFill>
          <p:spPr>
            <a:xfrm>
              <a:off x="43899120" y="4518000"/>
              <a:ext cx="4905360" cy="405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7808480" y="4481640"/>
              <a:ext cx="7566120" cy="37893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Key Characteristics of 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etamodeling is used to define a domain modeling language and the constraints within that domai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rom the metamodel, a modeling environment is created for a specific domai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main experts work within the generated environment to create specific instances of domain models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omain models can then be interpreted. This can result in an analysis of a model, or even synthesis into an application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445520" y="4448160"/>
              <a:ext cx="7940880" cy="4195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8160" rIns="128160" tIns="64080" bIns="6408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Generic Modeling Environment (GM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tendable/modular component-based architecture that supports M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nsists of a metaprogrammable graphical editor, a model constraint checker, and metamodeling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Key feature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e inheri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Model persistence (bi-directional XML, databas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en API through 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Used in numerous industrial domain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2" marL="1422360" indent="-14292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utomotive, avionics, electrical utilities, digital signal processing, chemical pla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857160" indent="-285480" algn="just">
                <a:lnSpc>
                  <a:spcPct val="100000"/>
                </a:lnSpc>
                <a:tabLst>
                  <a:tab algn="l" pos="0"/>
                  <a:tab algn="l" pos="1279440"/>
                  <a:tab algn="l" pos="2558880"/>
                  <a:tab algn="l" pos="3838680"/>
                  <a:tab algn="l" pos="5118120"/>
                  <a:tab algn="l" pos="6397560"/>
                  <a:tab algn="l" pos="7677000"/>
                  <a:tab algn="l" pos="8956800"/>
                  <a:tab algn="l" pos="102362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27132120" y="4425840"/>
              <a:ext cx="5425920" cy="4184640"/>
              <a:chOff x="27132120" y="4425840"/>
              <a:chExt cx="5425920" cy="418464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27132120" y="5173560"/>
                <a:ext cx="5425920" cy="3436920"/>
                <a:chOff x="27132120" y="5173560"/>
                <a:chExt cx="5425920" cy="34369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27132120" y="5184720"/>
                  <a:ext cx="1720800" cy="11034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" name=""/>
                <p:cNvGrpSpPr/>
                <p:nvPr/>
              </p:nvGrpSpPr>
              <p:grpSpPr>
                <a:xfrm>
                  <a:off x="30880080" y="7040520"/>
                  <a:ext cx="1426680" cy="733320"/>
                  <a:chOff x="30880080" y="7040520"/>
                  <a:chExt cx="1426680" cy="733320"/>
                </a:xfrm>
              </p:grpSpPr>
              <p:sp>
                <p:nvSpPr>
                  <p:cNvPr id="248" name=""/>
                  <p:cNvSpPr/>
                  <p:nvPr/>
                </p:nvSpPr>
                <p:spPr>
                  <a:xfrm>
                    <a:off x="30946320" y="7040520"/>
                    <a:ext cx="1360440" cy="666720"/>
                  </a:xfrm>
                  <a:prstGeom prst="ellipse">
                    <a:avLst/>
                  </a:prstGeom>
                  <a:solidFill>
                    <a:srgbClr val="28289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0913920" y="7075440"/>
                    <a:ext cx="1359000" cy="666720"/>
                  </a:xfrm>
                  <a:prstGeom prst="ellipse">
                    <a:avLst/>
                  </a:prstGeom>
                  <a:solidFill>
                    <a:srgbClr val="28289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0880080" y="7107120"/>
                    <a:ext cx="1360800" cy="666720"/>
                  </a:xfrm>
                  <a:prstGeom prst="ellipse">
                    <a:avLst/>
                  </a:prstGeom>
                  <a:solidFill>
                    <a:srgbClr val="28289e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Mode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Interpretatio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1" name=""/>
                <p:cNvSpPr/>
                <p:nvPr/>
              </p:nvSpPr>
              <p:spPr>
                <a:xfrm>
                  <a:off x="29148120" y="6289560"/>
                  <a:ext cx="1467000" cy="2190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9089440" y="6356160"/>
                  <a:ext cx="1465200" cy="21891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028960" y="6421320"/>
                  <a:ext cx="1467000" cy="21891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"/>
                <p:cNvGrpSpPr/>
                <p:nvPr/>
              </p:nvGrpSpPr>
              <p:grpSpPr>
                <a:xfrm>
                  <a:off x="29176560" y="8049960"/>
                  <a:ext cx="1269720" cy="442800"/>
                  <a:chOff x="29176560" y="8049960"/>
                  <a:chExt cx="1269720" cy="44280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29284920" y="8049960"/>
                    <a:ext cx="1161360" cy="3466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9237040" y="8098200"/>
                    <a:ext cx="1161720" cy="3466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9176560" y="8146080"/>
                    <a:ext cx="1161720" cy="34668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Model Interpreter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29176560" y="7468920"/>
                  <a:ext cx="1269720" cy="439560"/>
                  <a:chOff x="29176560" y="7468920"/>
                  <a:chExt cx="1269720" cy="43956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29284920" y="7468920"/>
                    <a:ext cx="1161360" cy="3441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9237040" y="7516800"/>
                    <a:ext cx="1161720" cy="3441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9176560" y="7564320"/>
                    <a:ext cx="1161720" cy="34416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Model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2" name=""/>
                <p:cNvSpPr/>
                <p:nvPr/>
              </p:nvSpPr>
              <p:spPr>
                <a:xfrm flipH="1">
                  <a:off x="29590920" y="7269120"/>
                  <a:ext cx="61920" cy="304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9768760" y="7269120"/>
                  <a:ext cx="0" cy="24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9887920" y="7269120"/>
                  <a:ext cx="44280" cy="199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9028960" y="6395760"/>
                  <a:ext cx="146700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2880" rIns="182880" tIns="91440" bIns="914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odeling Environ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 flipV="1">
                  <a:off x="30418200" y="7668720"/>
                  <a:ext cx="622080" cy="554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 flipV="1">
                  <a:off x="30418200" y="7526160"/>
                  <a:ext cx="495360" cy="146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0743640" y="5173560"/>
                  <a:ext cx="1697040" cy="11066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0665880" y="5238720"/>
                  <a:ext cx="189216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2880" rIns="182880" tIns="91440" bIns="914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Ap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omai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0841920" y="5778360"/>
                  <a:ext cx="347760" cy="3906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p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31421520" y="5778360"/>
                  <a:ext cx="347400" cy="3906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p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010480" y="5778360"/>
                  <a:ext cx="344520" cy="39060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App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1189680" y="6038640"/>
                  <a:ext cx="23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1768920" y="6038640"/>
                  <a:ext cx="236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31773600" y="5887800"/>
                  <a:ext cx="236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31189680" y="5887800"/>
                  <a:ext cx="23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>
                  <a:off x="31012920" y="6165360"/>
                  <a:ext cx="435240" cy="880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V="1">
                  <a:off x="31589640" y="6149520"/>
                  <a:ext cx="0" cy="8874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31754880" y="6149880"/>
                  <a:ext cx="434880" cy="900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9794320" y="5413320"/>
                  <a:ext cx="1041480" cy="2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3366"/>
                      </a:solidFill>
                      <a:latin typeface="Arial"/>
                    </a:rPr>
                    <a:t>Application Evolu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824120" y="5418000"/>
                  <a:ext cx="1043280" cy="233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3366"/>
                      </a:solidFill>
                      <a:latin typeface="Arial"/>
                    </a:rPr>
                    <a:t>Environment Evolution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30330360" y="5757840"/>
                  <a:ext cx="412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28852560" y="5757840"/>
                  <a:ext cx="531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0330720" y="5757840"/>
                  <a:ext cx="0" cy="539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29384640" y="5757840"/>
                  <a:ext cx="0" cy="530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27385920" y="7027920"/>
                  <a:ext cx="1243080" cy="709560"/>
                </a:xfrm>
                <a:prstGeom prst="ellipse">
                  <a:avLst/>
                </a:prstGeom>
                <a:solidFill>
                  <a:srgbClr val="28289e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Meta-Leve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Transl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V="1">
                  <a:off x="28602000" y="7083360"/>
                  <a:ext cx="541440" cy="179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8513080" y="7589160"/>
                  <a:ext cx="636480" cy="525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68480" y="5197320"/>
                  <a:ext cx="1658880" cy="4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2880" rIns="182880" tIns="91440" bIns="9144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Metaprogrammin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Interfac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" name=""/>
                <p:cNvGrpSpPr/>
                <p:nvPr/>
              </p:nvGrpSpPr>
              <p:grpSpPr>
                <a:xfrm>
                  <a:off x="27252720" y="5707080"/>
                  <a:ext cx="1496880" cy="439560"/>
                  <a:chOff x="27252720" y="5707080"/>
                  <a:chExt cx="1496880" cy="43956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27379800" y="5707080"/>
                    <a:ext cx="1369800" cy="3445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27324000" y="5754600"/>
                    <a:ext cx="1368360" cy="3445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27252720" y="5802120"/>
                    <a:ext cx="1369800" cy="344520"/>
                  </a:xfrm>
                  <a:prstGeom prst="rect">
                    <a:avLst/>
                  </a:prstGeom>
                  <a:solidFill>
                    <a:srgbClr val="cc33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82880" rIns="182880" tIns="91440" bIns="9144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i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Formal Specification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4" name=""/>
                <p:cNvSpPr/>
                <p:nvPr/>
              </p:nvSpPr>
              <p:spPr>
                <a:xfrm>
                  <a:off x="28009800" y="6297480"/>
                  <a:ext cx="0" cy="712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29237040" y="6914880"/>
                  <a:ext cx="1149480" cy="344520"/>
                </a:xfrm>
                <a:prstGeom prst="rect">
                  <a:avLst/>
                </a:prstGeom>
                <a:solidFill>
                  <a:srgbClr val="cc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82880" rIns="182880" tIns="91440" bIns="9144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Model Builder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28090080" y="4425840"/>
                <a:ext cx="3693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Model Integrated Computing (MIC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01T00:09:43Z</dcterms:created>
  <dc:creator>pgroup</dc:creator>
  <dc:description/>
  <dc:language>en-US</dc:language>
  <cp:lastModifiedBy>Jeff Gray</cp:lastModifiedBy>
  <cp:lastPrinted>2000-04-24T21:40:14Z</cp:lastPrinted>
  <dcterms:modified xsi:type="dcterms:W3CDTF">2001-10-10T15:06:05Z</dcterms:modified>
  <cp:revision>544</cp:revision>
  <dc:subject/>
  <dc:title>No Slide Title</dc:title>
</cp:coreProperties>
</file>