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0053-55B3-4E50-BFCA-CA0A239862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E3A2-17D5-40BD-93CA-365821AB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2179-883C-4125-91A1-833ADBA9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DBE8-6850-45AA-B3D4-FBC59B4263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53B2A-3D3D-4709-8589-F0C913A3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6937D-6670-48D6-9B5C-4EC22E2C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BAAE4-7E21-47E1-8E80-26A7C3FD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A2A9E-8756-4271-A0CD-FDF0B19B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23625-BCF7-45CD-AB08-6D1CB8C5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D3AFF-8518-4BAA-B248-10E47BD6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AEEE12-3C4C-4679-A204-3DC3F860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9FD7D-5F4B-431E-AE81-D8BFDB51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9A24D-32DE-4443-A8EC-3EA17773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627FF-72B8-4021-84F8-C9C1250EB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BCEF5-1D7A-4DAA-A9D4-2F655C76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C1F907-2F3A-41DF-AC3D-B520D69A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9520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DFDA81-5C96-4BCE-B9C1-73144C30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701B-1EAF-4E32-B1FC-DD9BCEC3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26514-91B2-48D1-9616-655FB0BC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1FD83-87EE-4AFC-904C-82C1A947D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380520"/>
            <a:ext cx="632448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17B2-45BC-40BD-9791-763DAFAB9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FD504-09CF-41ED-9BF2-C0CF77FF4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520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8A593-160B-4AB7-9035-3D9C824F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520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F810C-53DB-4BA5-8058-92F3B45D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9BCAC-9522-41D3-B35A-89A39612BC2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077320" y="380880"/>
            <a:ext cx="10666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3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9130-1CA6-47F7-9E84-8B6B26C6ED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30492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7772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Recent Related Publication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eff Gray, Ted Bapty, Sandeep Neema, J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uck, “Handling Crosscutting Constraints in Domain-Specific Modeling,”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mmunications of the AC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October 2001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kos Ledeczi, Arpad Bakay, Miklos Maroti, Peter Volgyesi, Greg Nordstrom, Jonathan Sprinkle, Gabor Karsai, “Composing Domain-Specific Design Environments,”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EEE Compu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November 2001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mary Related OOPSLA Events</a:t>
            </a:r>
            <a:endParaRPr b="0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tle: “GME: A Reflective Environment for Domain-Specific Modeling”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senter: Akos Ledeczi, Institute for Software Integrated Systems (ISIS) - Vanderbilt University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: Tue/Wed – 11:15 am - 12:00 pm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: Convention Center Room 21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hop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tle: “Domain-Specific Visual Language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poster is available for this worksh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oster #1 in Final Program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-2397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it workshop web site (position papers available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623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ttp://www.isis.vanderbilt.edu/oopsla2k1/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63244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ther Related OOPSLA Events</a:t>
            </a:r>
            <a:endParaRPr b="0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emo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5 -  “ComposeJ: Aspect-Oriented Programming with Composition Filters and Java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6 – “AspectJ™: the Language and Support Tool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18 – “Hyper/J: Multi-Dimensional Separation of Concerns for Java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ops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6 – “Advanced Separation of Concerns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#30 – “Generative Programming”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9T19:39:13Z</dcterms:created>
  <dc:creator>Jeff Gray</dc:creator>
  <dc:description/>
  <dc:language>en-US</dc:language>
  <cp:lastModifiedBy>Jeff Gray</cp:lastModifiedBy>
  <cp:lastPrinted>2000-09-25T19:05:17Z</cp:lastPrinted>
  <dcterms:modified xsi:type="dcterms:W3CDTF">2001-10-08T20:55:45Z</dcterms:modified>
  <cp:revision>238</cp:revision>
  <dc:subject/>
  <dc:title>No Slide Title</dc:title>
</cp:coreProperties>
</file>